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47B-C04E-47B0-B6C4-3D47F4B4B3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9EB-6465-4380-833D-870D1FB9CA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14E6-AB15-4B08-8D8C-980C8F20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319-7BCE-45C9-AFA9-F248DA69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7A99-E31A-4763-8808-C00352EA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C48-352F-4976-9368-5133AA34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41D3-CD51-4339-ADBD-F44CC6A4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4FAE-190B-434D-ABD6-71D651EC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6B3-0516-4754-9D59-5FB3093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2378-128D-4E91-B8E0-BDC12AEC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3738-C8AB-4478-863B-3DEAC7F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9002-5DDC-4E60-8BFE-527C9FF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44F5-9485-4810-AA07-FEBB852B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3D9E-2C48-4995-A66F-20F65A9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7E6-D74F-43FF-8F55-2BB954D9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69F9-8899-4BD6-9047-5C6B6042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BFE7-9C25-4F07-BF11-45A4A6C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260F-BC32-417C-A820-C457FD6F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00B-03E9-4797-8CC8-3F1F4B81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443-680C-450F-A529-686E7377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B19-8337-43F1-BFDF-870E3A2E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5475-9F82-46AD-AB0A-24160E07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E3F-A9FE-436E-80AC-D3FCDD18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CBA-7A53-4EE8-AF60-BC655185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847-3625-45BD-BCB0-F0BEEBD9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E8-4873-46C5-9AD1-D8177CD0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479-E1C1-4477-995C-9E3160579D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34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4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4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5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20F1-D39B-445A-B40F-C1B2921DD1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5"/>
          <p:cNvSpPr/>
          <p:nvPr/>
        </p:nvSpPr>
        <p:spPr>
          <a:xfrm>
            <a:off x="3352680" y="32004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rban Kids Tod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6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304920" y="304920"/>
            <a:ext cx="25146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ully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itic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anting accepta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er pressu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ivers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3581280" y="380880"/>
            <a:ext cx="20574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ow income welfa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rents working 2 job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roken famil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crease in single   paren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Text Box 13"/>
          <p:cNvSpPr/>
          <p:nvPr/>
        </p:nvSpPr>
        <p:spPr>
          <a:xfrm>
            <a:off x="6781680" y="152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6781680" y="60948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6"/>
          <p:cNvSpPr/>
          <p:nvPr/>
        </p:nvSpPr>
        <p:spPr>
          <a:xfrm>
            <a:off x="5410080" y="289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cial econom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Text Box 17"/>
          <p:cNvSpPr/>
          <p:nvPr/>
        </p:nvSpPr>
        <p:spPr>
          <a:xfrm>
            <a:off x="5791320" y="3505320"/>
            <a:ext cx="19047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Educ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Text Box 20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3352680" y="5562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990720" y="5595840"/>
            <a:ext cx="26668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ransporta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fterschool progra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0" y="4114800"/>
            <a:ext cx="312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0" y="2133720"/>
            <a:ext cx="20574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olenc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 Hous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School Community Conn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31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32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33"/>
          <p:cNvSpPr/>
          <p:nvPr/>
        </p:nvSpPr>
        <p:spPr>
          <a:xfrm>
            <a:off x="5867280" y="2895480"/>
            <a:ext cx="266724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Rectangle 34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Rectangle 35"/>
          <p:cNvSpPr/>
          <p:nvPr/>
        </p:nvSpPr>
        <p:spPr>
          <a:xfrm>
            <a:off x="685800" y="5486400"/>
            <a:ext cx="396252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36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Rectangle 37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38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40"/>
          <p:cNvSpPr/>
          <p:nvPr/>
        </p:nvSpPr>
        <p:spPr>
          <a:xfrm>
            <a:off x="3429000" y="3276720"/>
            <a:ext cx="198108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Line 41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Line 42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Line 43"/>
          <p:cNvSpPr/>
          <p:nvPr/>
        </p:nvSpPr>
        <p:spPr>
          <a:xfrm>
            <a:off x="5257800" y="4191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Line 44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Line 45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Line 47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Line 48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Line 49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6" descr="C:\Users\Owner\Pictures\Microsoft Clip Organizer\j0408959.jpg"/>
          <p:cNvPicPr/>
          <p:nvPr/>
        </p:nvPicPr>
        <p:blipFill>
          <a:blip r:embed="rId1"/>
          <a:stretch/>
        </p:blipFill>
        <p:spPr>
          <a:xfrm>
            <a:off x="3429000" y="380988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Owner</cp:lastModifiedBy>
  <dcterms:modified xsi:type="dcterms:W3CDTF">2010-02-11T00:08:24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