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8837-32A0-4228-A0AE-93315F7A6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9C2D-E448-4F16-81DF-C1F75C79D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D6B8-06DC-498F-8DB4-FFE13A829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C92D-33CF-4848-8F0A-969BAA3BEF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19E7-A7D8-49D8-A085-E55F53B7CA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EB8A-D031-4085-9332-21EBC38C6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5CD3-F058-49EF-8C09-55D43D6F8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DDC9-660A-41CA-B5EF-A0EEC8A8C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5356-743F-4B6E-B378-3597AAB596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DD6E-1EC2-466B-B887-EBA48CAF2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CB0A-694F-4D33-9A47-9D21924F2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5A49-8169-4455-AFE3-3739121CA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9B5-E066-4861-B842-B510EBACD6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2041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nitive Apprenticeship”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alibri Italic"/>
                <a:ea typeface="Calibri Italic"/>
              </a:rPr>
              <a:t>Allan Coll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Memb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isa Douglas, Eric Fuerschbach, Lindsey Moore, Sherri VandenAk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3360" y="517680"/>
            <a:ext cx="8547120" cy="5329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3409920" y="0"/>
            <a:ext cx="212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E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Bold"/>
                <a:ea typeface="Calibri Bold"/>
              </a:rPr>
              <a:t>MODELING, COACHING, SCAFFOLDING &amp; PRACT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281400" y="1763640"/>
            <a:ext cx="13082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TRA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Ancient and well-established teaching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Inefficient”: Small mentor/student rat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domain-specific methods and skil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“embedded in specific social and functional context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physical and ex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72000" y="1763640"/>
            <a:ext cx="13208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COGN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ethod conceived of in the 1970’s, with John Seely Br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With technology, can be “efficient.”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Teaches processes to do complex cognitive tas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transferrable and can be broadly appli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Skills are cognitive and thus inter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Dimensions of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6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DC4B-8C44-40D0-9EF6-74FF984552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mes in Research on Cognitive Apprentice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616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748512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CA29-EF3A-4D4C-AB74-EC788F2989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660240" y="1714680"/>
            <a:ext cx="7899480" cy="149832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73200" y="1714680"/>
            <a:ext cx="88516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7828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Based Scenarios (computer or natural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real world tasks and scaffolding to complet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s cognitive skills in their appropriate con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accomplishing tasks and learning underlying competenc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622440" y="3251160"/>
            <a:ext cx="7899120" cy="1498680"/>
          </a:xfrm>
          <a:prstGeom prst="roundRect">
            <a:avLst>
              <a:gd name="adj" fmla="val 12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00200" y="3251160"/>
            <a:ext cx="77086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0970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gitimate Peripheral Participation.  Identity comes from being part of a community of work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viduals: learning is engaging and participating in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munities: learning is refining their practice and ensuring new gene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tions: learning is sustaining interconnected communities to stay valu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09480" y="4788000"/>
            <a:ext cx="7899480" cy="1904760"/>
          </a:xfrm>
          <a:prstGeom prst="roundRect">
            <a:avLst>
              <a:gd name="adj" fmla="val 1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774720" y="4863960"/>
            <a:ext cx="7569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lvl="4" marL="2440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unities of Lear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: advance collective knowledge and support diverse knowled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st have: diverse experience of members who are valued and supported, shared objective of advancing collective knowledge and skills, emphasize learning how to learn and have mechanisms for sharing what is lear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stering a Community of Learners (FCL) promotes diversity of interests and tal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57200" y="274680"/>
            <a:ext cx="82422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emes in Research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gnitive Apprentice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2"/>
          <p:cNvGrpSpPr/>
          <p:nvPr/>
        </p:nvGrpSpPr>
        <p:grpSpPr>
          <a:xfrm>
            <a:off x="1525680" y="2001960"/>
            <a:ext cx="1868400" cy="547560"/>
            <a:chOff x="1525680" y="2001960"/>
            <a:chExt cx="1868400" cy="547560"/>
          </a:xfrm>
        </p:grpSpPr>
        <p:sp>
          <p:nvSpPr>
            <p:cNvPr id="59" name="Rectangle 3"/>
            <p:cNvSpPr/>
            <p:nvPr/>
          </p:nvSpPr>
          <p:spPr>
            <a:xfrm>
              <a:off x="15256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15271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caffoldin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5"/>
          <p:cNvGrpSpPr/>
          <p:nvPr/>
        </p:nvGrpSpPr>
        <p:grpSpPr>
          <a:xfrm>
            <a:off x="1525680" y="2549520"/>
            <a:ext cx="1866960" cy="2306520"/>
            <a:chOff x="1525680" y="2549520"/>
            <a:chExt cx="1866960" cy="2306520"/>
          </a:xfrm>
        </p:grpSpPr>
        <p:sp>
          <p:nvSpPr>
            <p:cNvPr id="62" name="Rectangle 6"/>
            <p:cNvSpPr/>
            <p:nvPr/>
          </p:nvSpPr>
          <p:spPr>
            <a:xfrm>
              <a:off x="15256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"/>
            <p:cNvSpPr/>
            <p:nvPr/>
          </p:nvSpPr>
          <p:spPr>
            <a:xfrm>
              <a:off x="1525680" y="2549520"/>
              <a:ext cx="18669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vides structur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help men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uter guided tou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8"/>
          <p:cNvGrpSpPr/>
          <p:nvPr/>
        </p:nvGrpSpPr>
        <p:grpSpPr>
          <a:xfrm>
            <a:off x="3643200" y="2001960"/>
            <a:ext cx="1868400" cy="547560"/>
            <a:chOff x="3643200" y="2001960"/>
            <a:chExt cx="1868400" cy="547560"/>
          </a:xfrm>
        </p:grpSpPr>
        <p:sp>
          <p:nvSpPr>
            <p:cNvPr id="65" name="Rectangle 9"/>
            <p:cNvSpPr/>
            <p:nvPr/>
          </p:nvSpPr>
          <p:spPr>
            <a:xfrm>
              <a:off x="364320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64464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flec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1"/>
          <p:cNvGrpSpPr/>
          <p:nvPr/>
        </p:nvGrpSpPr>
        <p:grpSpPr>
          <a:xfrm>
            <a:off x="3643200" y="2549520"/>
            <a:ext cx="1866960" cy="2306520"/>
            <a:chOff x="3643200" y="2549520"/>
            <a:chExt cx="1866960" cy="2306520"/>
          </a:xfrm>
        </p:grpSpPr>
        <p:sp>
          <p:nvSpPr>
            <p:cNvPr id="68" name="Rectangle 12"/>
            <p:cNvSpPr/>
            <p:nvPr/>
          </p:nvSpPr>
          <p:spPr>
            <a:xfrm>
              <a:off x="364320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3"/>
            <p:cNvSpPr/>
            <p:nvPr/>
          </p:nvSpPr>
          <p:spPr>
            <a:xfrm>
              <a:off x="3643200" y="2549520"/>
              <a:ext cx="1866960" cy="21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to a set of criter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layback the proces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pare different performance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4"/>
          <p:cNvGrpSpPr/>
          <p:nvPr/>
        </p:nvGrpSpPr>
        <p:grpSpPr>
          <a:xfrm>
            <a:off x="5761080" y="2001960"/>
            <a:ext cx="1868400" cy="547560"/>
            <a:chOff x="5761080" y="2001960"/>
            <a:chExt cx="1868400" cy="547560"/>
          </a:xfrm>
        </p:grpSpPr>
        <p:sp>
          <p:nvSpPr>
            <p:cNvPr id="71" name="Rectangle 15"/>
            <p:cNvSpPr/>
            <p:nvPr/>
          </p:nvSpPr>
          <p:spPr>
            <a:xfrm>
              <a:off x="5761080" y="2001960"/>
              <a:ext cx="1857240" cy="5475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5762520" y="2052720"/>
              <a:ext cx="18669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135000" tIns="76320" bIns="76320" anchor="ctr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Articul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7"/>
          <p:cNvGrpSpPr/>
          <p:nvPr/>
        </p:nvGrpSpPr>
        <p:grpSpPr>
          <a:xfrm>
            <a:off x="5761080" y="2549520"/>
            <a:ext cx="1866960" cy="2476440"/>
            <a:chOff x="5761080" y="2549520"/>
            <a:chExt cx="1866960" cy="2476440"/>
          </a:xfrm>
        </p:grpSpPr>
        <p:sp>
          <p:nvSpPr>
            <p:cNvPr id="74" name="Rectangle 18"/>
            <p:cNvSpPr/>
            <p:nvPr/>
          </p:nvSpPr>
          <p:spPr>
            <a:xfrm>
              <a:off x="5761080" y="2549520"/>
              <a:ext cx="1857240" cy="2306520"/>
            </a:xfrm>
            <a:prstGeom prst="rect">
              <a:avLst/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761080" y="2549520"/>
              <a:ext cx="1866960" cy="24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35000" tIns="101520" bIns="101520" anchor="t">
              <a:noAutofit/>
            </a:bodyPr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edict, revise, experimen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mmunity of Inqui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onjecture &amp; interpre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8400" indent="-68400">
                <a:lnSpc>
                  <a:spcPct val="90000"/>
                </a:lnSpc>
                <a:spcBef>
                  <a:spcPts val="337"/>
                </a:spcBef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hare conclusion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herri VandenAkker</dc:creator>
  <dc:description/>
  <cp:keywords/>
  <dc:language>en-US</dc:language>
  <cp:lastModifiedBy>Sherri VandenAkker</cp:lastModifiedBy>
  <dcterms:modified xsi:type="dcterms:W3CDTF">2010-03-10T04:50:21Z</dcterms:modified>
  <cp:revision>1</cp:revision>
  <dc:subject/>
  <dc:title>“Cognitive Apprenticeship” Allan Collins</dc:title>
</cp:coreProperties>
</file>