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30D3-ECE5-4691-A93F-B35046097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C8A7-FB5C-42C4-AB7B-B4DC835C6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FAB0-C370-4CD6-A26E-4A1CB55FE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6516-45E2-484C-B7D9-A4E2BA3E82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EF47-487B-4909-B973-001E8C9786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C23D-D2F3-4973-9D95-208B26910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2327-7E35-4829-AD4E-0A9DA85E5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2F3E-CF40-4FCD-8C25-178262205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71D0-BFDD-4EBD-A6B6-878D1693A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6375-5478-4583-8910-57E01875E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D24D-6BAA-4B28-8DDC-A65F866E9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A52D-BB4F-49C3-B5F7-C861FCB54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84760" y="6399360"/>
            <a:ext cx="268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C156-1467-4491-8006-CB4D62F2850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nitive Apprenticeship”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Allan Coll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oup Memb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isa Douglas, Eric Fuerschbach, Lindsey Moore, Sherri VandenAk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3360" y="517680"/>
            <a:ext cx="8547120" cy="5329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3409920" y="0"/>
            <a:ext cx="212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Bold"/>
                <a:ea typeface="Calibri Bold"/>
              </a:rPr>
              <a:t>APPRENTICE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TE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Bold"/>
                <a:ea typeface="Calibri Bold"/>
              </a:rPr>
              <a:t>thr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Bold"/>
                <a:ea typeface="Calibri Bold"/>
              </a:rPr>
              <a:t>MODELING, COACHING, SCAFFOLDING &amp; PRACTI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281400" y="1763640"/>
            <a:ext cx="130824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TRADI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PPRENTICESHI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Ancient and well-established teaching meth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Inefficient”: Small mentor/student rati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Teaches domain-specific methods and skil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Skills are “embedded in specific social and functional contexts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Skills are physical and extern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572000" y="1763640"/>
            <a:ext cx="132084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COGN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PPRENTICESHI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Method conceived of in the 1970’s, with John Seely Br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With technology, can be “efficient.”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Teaches processes to do complex cognitive task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Skills are transferrable and can be broadly appli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Skills are cognitive and thus intern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 Dimensions of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6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485120" y="639936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C687-BD5B-4100-A4EC-5E684036BCF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mes in Research on Cognitive Apprentice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5616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7485120" y="639936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D104-E26E-42BC-9D26-2DCF415E984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660240" y="1714680"/>
            <a:ext cx="7899480" cy="1498320"/>
          </a:xfrm>
          <a:prstGeom prst="roundRect">
            <a:avLst>
              <a:gd name="adj" fmla="val 127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73200" y="1714680"/>
            <a:ext cx="88516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lvl="4" marL="27828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tuat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Based Scenarios (computer or natural environ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ven real world tasks and scaffolding to complet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mbeds cognitive skills in their appropriate con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cus on accomplishing tasks and learning underlying competenc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622440" y="3251160"/>
            <a:ext cx="7899120" cy="1498680"/>
          </a:xfrm>
          <a:prstGeom prst="roundRect">
            <a:avLst>
              <a:gd name="adj" fmla="val 127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00200" y="3251160"/>
            <a:ext cx="770868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lvl="4" marL="20970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ties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gitimate Peripheral Participation.  Identity comes from being part of a community of work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dividuals: learning is engaging and participating in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munities: learning is refining their practice and ensuring new gener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: learning is sustaining interconnected communities to stay valu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609480" y="4788000"/>
            <a:ext cx="7899480" cy="1904760"/>
          </a:xfrm>
          <a:prstGeom prst="roundRect">
            <a:avLst>
              <a:gd name="adj" fmla="val 1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774720" y="4863960"/>
            <a:ext cx="7569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lvl="4" marL="2440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ties of Lear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: advance collective knowledge and support diverse knowled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st have: diverse experience of members who are valued and supported, shared objective of advancing collective knowledge and skills, emphasize learning how to learn and have mechanisms for sharing what is learn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stering a Community of Learners (FCL) promotes diversity of interests and tal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457200" y="274680"/>
            <a:ext cx="82422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Themes in Research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gnitive Apprentice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"/>
          <p:cNvGrpSpPr/>
          <p:nvPr/>
        </p:nvGrpSpPr>
        <p:grpSpPr>
          <a:xfrm>
            <a:off x="1525680" y="2001960"/>
            <a:ext cx="1868400" cy="547560"/>
            <a:chOff x="1525680" y="2001960"/>
            <a:chExt cx="1868400" cy="547560"/>
          </a:xfrm>
        </p:grpSpPr>
        <p:sp>
          <p:nvSpPr>
            <p:cNvPr id="59" name="Rectangle 3"/>
            <p:cNvSpPr/>
            <p:nvPr/>
          </p:nvSpPr>
          <p:spPr>
            <a:xfrm>
              <a:off x="1525680" y="2001960"/>
              <a:ext cx="1857240" cy="547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"/>
            <p:cNvSpPr/>
            <p:nvPr/>
          </p:nvSpPr>
          <p:spPr>
            <a:xfrm>
              <a:off x="1527120" y="2052720"/>
              <a:ext cx="18669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5000" tIns="76320" bIns="76320" anchor="ctr">
              <a:no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caffolding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5"/>
          <p:cNvGrpSpPr/>
          <p:nvPr/>
        </p:nvGrpSpPr>
        <p:grpSpPr>
          <a:xfrm>
            <a:off x="1525680" y="2549520"/>
            <a:ext cx="1866960" cy="2306520"/>
            <a:chOff x="1525680" y="2549520"/>
            <a:chExt cx="1866960" cy="2306520"/>
          </a:xfrm>
        </p:grpSpPr>
        <p:sp>
          <p:nvSpPr>
            <p:cNvPr id="62" name="Rectangle 6"/>
            <p:cNvSpPr/>
            <p:nvPr/>
          </p:nvSpPr>
          <p:spPr>
            <a:xfrm>
              <a:off x="1525680" y="2549520"/>
              <a:ext cx="1857240" cy="230652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"/>
            <p:cNvSpPr/>
            <p:nvPr/>
          </p:nvSpPr>
          <p:spPr>
            <a:xfrm>
              <a:off x="1525680" y="2549520"/>
              <a:ext cx="186696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35000" tIns="101520" bIns="101520" anchor="t">
              <a:noAutofit/>
            </a:bodyPr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vides structur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puter help menu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puter guided tou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8"/>
          <p:cNvGrpSpPr/>
          <p:nvPr/>
        </p:nvGrpSpPr>
        <p:grpSpPr>
          <a:xfrm>
            <a:off x="3643200" y="2001960"/>
            <a:ext cx="1868400" cy="547560"/>
            <a:chOff x="3643200" y="2001960"/>
            <a:chExt cx="1868400" cy="547560"/>
          </a:xfrm>
        </p:grpSpPr>
        <p:sp>
          <p:nvSpPr>
            <p:cNvPr id="65" name="Rectangle 9"/>
            <p:cNvSpPr/>
            <p:nvPr/>
          </p:nvSpPr>
          <p:spPr>
            <a:xfrm>
              <a:off x="3643200" y="2001960"/>
              <a:ext cx="1857240" cy="547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644640" y="2052720"/>
              <a:ext cx="18669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5000" tIns="76320" bIns="76320" anchor="ctr">
              <a:no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eflec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1"/>
          <p:cNvGrpSpPr/>
          <p:nvPr/>
        </p:nvGrpSpPr>
        <p:grpSpPr>
          <a:xfrm>
            <a:off x="3643200" y="2549520"/>
            <a:ext cx="1866960" cy="2306520"/>
            <a:chOff x="3643200" y="2549520"/>
            <a:chExt cx="1866960" cy="2306520"/>
          </a:xfrm>
        </p:grpSpPr>
        <p:sp>
          <p:nvSpPr>
            <p:cNvPr id="68" name="Rectangle 12"/>
            <p:cNvSpPr/>
            <p:nvPr/>
          </p:nvSpPr>
          <p:spPr>
            <a:xfrm>
              <a:off x="3643200" y="2549520"/>
              <a:ext cx="1857240" cy="230652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3"/>
            <p:cNvSpPr/>
            <p:nvPr/>
          </p:nvSpPr>
          <p:spPr>
            <a:xfrm>
              <a:off x="3643200" y="2549520"/>
              <a:ext cx="1866960" cy="21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35000" tIns="101520" bIns="101520" anchor="t">
              <a:noAutofit/>
            </a:bodyPr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pare to a set of criteri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layback the proces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pare different performanc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4"/>
          <p:cNvGrpSpPr/>
          <p:nvPr/>
        </p:nvGrpSpPr>
        <p:grpSpPr>
          <a:xfrm>
            <a:off x="5761080" y="2001960"/>
            <a:ext cx="1868400" cy="547560"/>
            <a:chOff x="5761080" y="2001960"/>
            <a:chExt cx="1868400" cy="547560"/>
          </a:xfrm>
        </p:grpSpPr>
        <p:sp>
          <p:nvSpPr>
            <p:cNvPr id="71" name="Rectangle 15"/>
            <p:cNvSpPr/>
            <p:nvPr/>
          </p:nvSpPr>
          <p:spPr>
            <a:xfrm>
              <a:off x="5761080" y="2001960"/>
              <a:ext cx="1857240" cy="547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5762520" y="2052720"/>
              <a:ext cx="18669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5000" tIns="76320" bIns="76320" anchor="ctr">
              <a:no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rticul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7"/>
          <p:cNvGrpSpPr/>
          <p:nvPr/>
        </p:nvGrpSpPr>
        <p:grpSpPr>
          <a:xfrm>
            <a:off x="5761080" y="2549520"/>
            <a:ext cx="1866960" cy="2476440"/>
            <a:chOff x="5761080" y="2549520"/>
            <a:chExt cx="1866960" cy="2476440"/>
          </a:xfrm>
        </p:grpSpPr>
        <p:sp>
          <p:nvSpPr>
            <p:cNvPr id="74" name="Rectangle 18"/>
            <p:cNvSpPr/>
            <p:nvPr/>
          </p:nvSpPr>
          <p:spPr>
            <a:xfrm>
              <a:off x="5761080" y="2549520"/>
              <a:ext cx="1857240" cy="230652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761080" y="2549520"/>
              <a:ext cx="1866960" cy="24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35000" tIns="101520" bIns="101520" anchor="t">
              <a:noAutofit/>
            </a:bodyPr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edict, revise, experimen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munity of Inquir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njecture &amp; interpre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hare conclusion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erri VandenAkker</dc:creator>
  <dc:description/>
  <cp:keywords/>
  <dc:language>en-US</dc:language>
  <cp:lastModifiedBy>Sherri VandenAkker</cp:lastModifiedBy>
  <dcterms:modified xsi:type="dcterms:W3CDTF">2010-03-10T04:50:21Z</dcterms:modified>
  <cp:revision>1</cp:revision>
  <dc:subject/>
  <dc:title>“Cognitive Apprenticeship” Allan Collins</dc:title>
</cp:coreProperties>
</file>