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627DFC-3BFC-4A97-923A-3C101A43FD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4C2A13-8892-4B31-B836-B86B8300CD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255187-C165-4D69-99BB-587C55D6A9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EE2FE8-F342-4FC9-A75D-8132083B6DB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5940DF-216C-40EA-AB4A-9538070953E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F8E100-D79C-42BB-A58F-293D55FD92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420557-6929-497A-A998-FB78A213A9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08C92B-BAED-47B0-BA78-DBF448E1BD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70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5C447D-E2BD-431F-8E1F-292552B9D6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9FC41A-A346-46C0-ABDB-A5C94ECD55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6BD350-FE5B-459E-AF2D-6F0C6E6A7E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F4D3D2-A067-410D-844E-6F4C48CFA1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188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184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8904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484760" y="6399360"/>
            <a:ext cx="26820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82247-2A35-467E-8591-4C5688AABCA4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1844280"/>
            <a:ext cx="7772400" cy="204156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gnitive Apprenticeship”</a:t>
            </a: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Calibri Italic"/>
                <a:ea typeface="Calibri Italic"/>
              </a:rPr>
              <a:t>Allan Collin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371600" y="3885840"/>
            <a:ext cx="6400800" cy="2971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96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Group Member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96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Lisa Douglas, Eric Fuerschbach, Lindsey Moore, Sherri VandenAkk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603360" y="517680"/>
            <a:ext cx="8547120" cy="532908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2"/>
          <p:cNvSpPr/>
          <p:nvPr/>
        </p:nvSpPr>
        <p:spPr>
          <a:xfrm>
            <a:off x="3409920" y="0"/>
            <a:ext cx="212076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 Bold"/>
                <a:ea typeface="Calibri Bold"/>
              </a:rPr>
              <a:t>APPRENTICESH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TEACH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 Bold"/>
                <a:ea typeface="Calibri Bold"/>
              </a:rPr>
              <a:t>throug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 Bold"/>
                <a:ea typeface="Calibri Bold"/>
              </a:rPr>
              <a:t>MODELING, COACHING, SCAFFOLDING &amp; PRACTIC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3281400" y="1763640"/>
            <a:ext cx="1308240" cy="37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TRADITIO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APPRENTICESHIP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Ancient and well-established teaching metho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Inefficient”: Small mentor/student ratio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Teaches domain-specific methods and skill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Skills are “embedded in specific social and functional contexts”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Skills are physical and externa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4"/>
          <p:cNvSpPr/>
          <p:nvPr/>
        </p:nvSpPr>
        <p:spPr>
          <a:xfrm>
            <a:off x="4572000" y="1763640"/>
            <a:ext cx="1320840" cy="37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COGNITIV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APPRENTICESHIP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Method conceived of in the 1970’s, with John Seely Brow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With technology, can be “efficient.”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Teaches processes to do complex cognitive task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Skills are transferrable and can be broadly applied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Skills are cognitive and thus interna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our Dimensions of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450720" y="1584360"/>
            <a:ext cx="8242560" cy="462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Slide Number Placeholder 3"/>
          <p:cNvSpPr/>
          <p:nvPr/>
        </p:nvSpPr>
        <p:spPr>
          <a:xfrm>
            <a:off x="7485120" y="6399360"/>
            <a:ext cx="26820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EBF33-4284-43BD-8FC7-37FF6F5C1027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mes in Research on Cognitive Apprenticeshi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95360" y="156168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7485120" y="6399360"/>
            <a:ext cx="26820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26AA4-F8BA-4CEF-A724-177ADDC1741B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660240" y="1714680"/>
            <a:ext cx="7899480" cy="1498320"/>
          </a:xfrm>
          <a:prstGeom prst="roundRect">
            <a:avLst>
              <a:gd name="adj" fmla="val 12708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5"/>
          <p:cNvSpPr/>
          <p:nvPr/>
        </p:nvSpPr>
        <p:spPr>
          <a:xfrm>
            <a:off x="673200" y="1714680"/>
            <a:ext cx="8851680" cy="12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lvl="4" marL="27828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ituated Lear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Goal Based Scenarios (computer or natural environmen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Given real world tasks and scaffolding to complete the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Embeds cognitive skills in their appropriate contex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ocus on accomplishing tasks and learning underlying competenci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6"/>
          <p:cNvSpPr/>
          <p:nvPr/>
        </p:nvSpPr>
        <p:spPr>
          <a:xfrm>
            <a:off x="622440" y="3251160"/>
            <a:ext cx="7899120" cy="1498680"/>
          </a:xfrm>
          <a:prstGeom prst="roundRect">
            <a:avLst>
              <a:gd name="adj" fmla="val 12708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7"/>
          <p:cNvSpPr/>
          <p:nvPr/>
        </p:nvSpPr>
        <p:spPr>
          <a:xfrm>
            <a:off x="700200" y="3251160"/>
            <a:ext cx="7708680" cy="149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lvl="4" marL="20970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munities of Pract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egitimate Peripheral Participation.  Identity comes from being part of a community of worke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dividuals: learning is engaging and participating in communit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munities: learning is refining their practice and ensuring new generation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rganizations: learning is sustaining interconnected communities to stay valuab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8"/>
          <p:cNvSpPr/>
          <p:nvPr/>
        </p:nvSpPr>
        <p:spPr>
          <a:xfrm>
            <a:off x="609480" y="4788000"/>
            <a:ext cx="7899480" cy="1904760"/>
          </a:xfrm>
          <a:prstGeom prst="roundRect">
            <a:avLst>
              <a:gd name="adj" fmla="val 1000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9"/>
          <p:cNvSpPr/>
          <p:nvPr/>
        </p:nvSpPr>
        <p:spPr>
          <a:xfrm>
            <a:off x="774720" y="4863960"/>
            <a:ext cx="7569360" cy="17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lvl="4" marL="244008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munities of Learn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Goal: advance collective knowledge and support diverse knowledg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ust have: diverse experience of members who are valued and supported, shared objective of advancing collective knowledge and skills, emphasize learning how to learn and have mechanisms for sharing what is learn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ostering a Community of Learners (FCL) promotes diversity of interests and talen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1"/>
          <p:cNvSpPr/>
          <p:nvPr/>
        </p:nvSpPr>
        <p:spPr>
          <a:xfrm>
            <a:off x="457200" y="274680"/>
            <a:ext cx="8242200" cy="12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Calibri"/>
              </a:rPr>
              <a:t>Themes in Research and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Calibri"/>
              </a:rPr>
              <a:t>Cognitive Apprenticeshi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Group 2"/>
          <p:cNvGrpSpPr/>
          <p:nvPr/>
        </p:nvGrpSpPr>
        <p:grpSpPr>
          <a:xfrm>
            <a:off x="1525680" y="2001960"/>
            <a:ext cx="1868400" cy="547560"/>
            <a:chOff x="1525680" y="2001960"/>
            <a:chExt cx="1868400" cy="547560"/>
          </a:xfrm>
        </p:grpSpPr>
        <p:sp>
          <p:nvSpPr>
            <p:cNvPr id="59" name="Rectangle 3"/>
            <p:cNvSpPr/>
            <p:nvPr/>
          </p:nvSpPr>
          <p:spPr>
            <a:xfrm>
              <a:off x="1525680" y="2001960"/>
              <a:ext cx="1857240" cy="54756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4"/>
            <p:cNvSpPr/>
            <p:nvPr/>
          </p:nvSpPr>
          <p:spPr>
            <a:xfrm>
              <a:off x="1527120" y="2052720"/>
              <a:ext cx="1866960" cy="44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135000" tIns="76320" bIns="76320" anchor="ctr">
              <a:noAutofit/>
            </a:bodyPr>
            <a:p>
              <a:pPr algn="ctr">
                <a:lnSpc>
                  <a:spcPct val="9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Scaffolding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Group 5"/>
          <p:cNvGrpSpPr/>
          <p:nvPr/>
        </p:nvGrpSpPr>
        <p:grpSpPr>
          <a:xfrm>
            <a:off x="1525680" y="2549520"/>
            <a:ext cx="1866960" cy="2306520"/>
            <a:chOff x="1525680" y="2549520"/>
            <a:chExt cx="1866960" cy="2306520"/>
          </a:xfrm>
        </p:grpSpPr>
        <p:sp>
          <p:nvSpPr>
            <p:cNvPr id="62" name="Rectangle 6"/>
            <p:cNvSpPr/>
            <p:nvPr/>
          </p:nvSpPr>
          <p:spPr>
            <a:xfrm>
              <a:off x="1525680" y="2549520"/>
              <a:ext cx="1857240" cy="2306520"/>
            </a:xfrm>
            <a:prstGeom prst="rect">
              <a:avLst/>
            </a:prstGeom>
            <a:solidFill>
              <a:srgbClr val="d0d8e8">
                <a:alpha val="90000"/>
              </a:srgbClr>
            </a:solidFill>
            <a:ln w="25560">
              <a:solidFill>
                <a:srgbClr val="d0d8e8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7"/>
            <p:cNvSpPr/>
            <p:nvPr/>
          </p:nvSpPr>
          <p:spPr>
            <a:xfrm>
              <a:off x="1525680" y="2549520"/>
              <a:ext cx="1866960" cy="190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1520" rIns="135000" tIns="101520" bIns="101520" anchor="t">
              <a:noAutofit/>
            </a:bodyPr>
            <a:p>
              <a:pPr marL="68400" indent="-68400">
                <a:lnSpc>
                  <a:spcPct val="90000"/>
                </a:lnSpc>
                <a:spcBef>
                  <a:spcPts val="337"/>
                </a:spcBef>
                <a:buClr>
                  <a:srgbClr val="000000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Provides structure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marL="68400" indent="-68400">
                <a:lnSpc>
                  <a:spcPct val="90000"/>
                </a:lnSpc>
                <a:spcBef>
                  <a:spcPts val="337"/>
                </a:spcBef>
                <a:buClr>
                  <a:srgbClr val="000000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Computer help menus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marL="68400" indent="-68400">
                <a:lnSpc>
                  <a:spcPct val="90000"/>
                </a:lnSpc>
                <a:spcBef>
                  <a:spcPts val="337"/>
                </a:spcBef>
                <a:buClr>
                  <a:srgbClr val="000000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Computer guided tours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" name="Group 8"/>
          <p:cNvGrpSpPr/>
          <p:nvPr/>
        </p:nvGrpSpPr>
        <p:grpSpPr>
          <a:xfrm>
            <a:off x="3643200" y="2001960"/>
            <a:ext cx="1868400" cy="547560"/>
            <a:chOff x="3643200" y="2001960"/>
            <a:chExt cx="1868400" cy="547560"/>
          </a:xfrm>
        </p:grpSpPr>
        <p:sp>
          <p:nvSpPr>
            <p:cNvPr id="65" name="Rectangle 9"/>
            <p:cNvSpPr/>
            <p:nvPr/>
          </p:nvSpPr>
          <p:spPr>
            <a:xfrm>
              <a:off x="3643200" y="2001960"/>
              <a:ext cx="1857240" cy="54756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Rectangle 10"/>
            <p:cNvSpPr/>
            <p:nvPr/>
          </p:nvSpPr>
          <p:spPr>
            <a:xfrm>
              <a:off x="3644640" y="2052720"/>
              <a:ext cx="1866960" cy="44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135000" tIns="76320" bIns="76320" anchor="ctr">
              <a:noAutofit/>
            </a:bodyPr>
            <a:p>
              <a:pPr algn="ctr">
                <a:lnSpc>
                  <a:spcPct val="9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Reflection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" name="Group 11"/>
          <p:cNvGrpSpPr/>
          <p:nvPr/>
        </p:nvGrpSpPr>
        <p:grpSpPr>
          <a:xfrm>
            <a:off x="3643200" y="2549520"/>
            <a:ext cx="1866960" cy="2306520"/>
            <a:chOff x="3643200" y="2549520"/>
            <a:chExt cx="1866960" cy="2306520"/>
          </a:xfrm>
        </p:grpSpPr>
        <p:sp>
          <p:nvSpPr>
            <p:cNvPr id="68" name="Rectangle 12"/>
            <p:cNvSpPr/>
            <p:nvPr/>
          </p:nvSpPr>
          <p:spPr>
            <a:xfrm>
              <a:off x="3643200" y="2549520"/>
              <a:ext cx="1857240" cy="2306520"/>
            </a:xfrm>
            <a:prstGeom prst="rect">
              <a:avLst/>
            </a:prstGeom>
            <a:solidFill>
              <a:srgbClr val="d0d8e8">
                <a:alpha val="90000"/>
              </a:srgbClr>
            </a:solidFill>
            <a:ln w="25560">
              <a:solidFill>
                <a:srgbClr val="d0d8e8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Rectangle 13"/>
            <p:cNvSpPr/>
            <p:nvPr/>
          </p:nvSpPr>
          <p:spPr>
            <a:xfrm>
              <a:off x="3643200" y="2549520"/>
              <a:ext cx="1866960" cy="217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1520" rIns="135000" tIns="101520" bIns="101520" anchor="t">
              <a:noAutofit/>
            </a:bodyPr>
            <a:p>
              <a:pPr marL="68400" indent="-68400">
                <a:lnSpc>
                  <a:spcPct val="90000"/>
                </a:lnSpc>
                <a:spcBef>
                  <a:spcPts val="337"/>
                </a:spcBef>
                <a:buClr>
                  <a:srgbClr val="000000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Compare to a set of criteria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marL="68400" indent="-68400">
                <a:lnSpc>
                  <a:spcPct val="90000"/>
                </a:lnSpc>
                <a:spcBef>
                  <a:spcPts val="337"/>
                </a:spcBef>
                <a:buClr>
                  <a:srgbClr val="000000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Playback the process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marL="68400" indent="-68400">
                <a:lnSpc>
                  <a:spcPct val="90000"/>
                </a:lnSpc>
                <a:spcBef>
                  <a:spcPts val="337"/>
                </a:spcBef>
                <a:buClr>
                  <a:srgbClr val="000000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Compare different performances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Group 14"/>
          <p:cNvGrpSpPr/>
          <p:nvPr/>
        </p:nvGrpSpPr>
        <p:grpSpPr>
          <a:xfrm>
            <a:off x="5761080" y="2001960"/>
            <a:ext cx="1868400" cy="547560"/>
            <a:chOff x="5761080" y="2001960"/>
            <a:chExt cx="1868400" cy="547560"/>
          </a:xfrm>
        </p:grpSpPr>
        <p:sp>
          <p:nvSpPr>
            <p:cNvPr id="71" name="Rectangle 15"/>
            <p:cNvSpPr/>
            <p:nvPr/>
          </p:nvSpPr>
          <p:spPr>
            <a:xfrm>
              <a:off x="5761080" y="2001960"/>
              <a:ext cx="1857240" cy="54756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ectangle 16"/>
            <p:cNvSpPr/>
            <p:nvPr/>
          </p:nvSpPr>
          <p:spPr>
            <a:xfrm>
              <a:off x="5762520" y="2052720"/>
              <a:ext cx="1866960" cy="44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135000" tIns="76320" bIns="76320" anchor="ctr">
              <a:noAutofit/>
            </a:bodyPr>
            <a:p>
              <a:pPr algn="ctr">
                <a:lnSpc>
                  <a:spcPct val="9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Articulation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Group 17"/>
          <p:cNvGrpSpPr/>
          <p:nvPr/>
        </p:nvGrpSpPr>
        <p:grpSpPr>
          <a:xfrm>
            <a:off x="5761080" y="2549520"/>
            <a:ext cx="1866960" cy="2476440"/>
            <a:chOff x="5761080" y="2549520"/>
            <a:chExt cx="1866960" cy="2476440"/>
          </a:xfrm>
        </p:grpSpPr>
        <p:sp>
          <p:nvSpPr>
            <p:cNvPr id="74" name="Rectangle 18"/>
            <p:cNvSpPr/>
            <p:nvPr/>
          </p:nvSpPr>
          <p:spPr>
            <a:xfrm>
              <a:off x="5761080" y="2549520"/>
              <a:ext cx="1857240" cy="2306520"/>
            </a:xfrm>
            <a:prstGeom prst="rect">
              <a:avLst/>
            </a:prstGeom>
            <a:solidFill>
              <a:srgbClr val="d0d8e8">
                <a:alpha val="90000"/>
              </a:srgbClr>
            </a:solidFill>
            <a:ln w="25560">
              <a:solidFill>
                <a:srgbClr val="d0d8e8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Rectangle 19"/>
            <p:cNvSpPr/>
            <p:nvPr/>
          </p:nvSpPr>
          <p:spPr>
            <a:xfrm>
              <a:off x="5761080" y="2549520"/>
              <a:ext cx="1866960" cy="247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1520" rIns="135000" tIns="101520" bIns="101520" anchor="t">
              <a:noAutofit/>
            </a:bodyPr>
            <a:p>
              <a:pPr marL="68400" indent="-68400">
                <a:lnSpc>
                  <a:spcPct val="90000"/>
                </a:lnSpc>
                <a:spcBef>
                  <a:spcPts val="337"/>
                </a:spcBef>
                <a:buClr>
                  <a:srgbClr val="000000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Predict, revise, experiment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marL="68400" indent="-68400">
                <a:lnSpc>
                  <a:spcPct val="90000"/>
                </a:lnSpc>
                <a:spcBef>
                  <a:spcPts val="337"/>
                </a:spcBef>
                <a:buClr>
                  <a:srgbClr val="000000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Community of Inquiry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marL="68400" indent="-68400">
                <a:lnSpc>
                  <a:spcPct val="90000"/>
                </a:lnSpc>
                <a:spcBef>
                  <a:spcPts val="337"/>
                </a:spcBef>
                <a:buClr>
                  <a:srgbClr val="000000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Conjecture &amp; interpretation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marL="68400" indent="-68400">
                <a:lnSpc>
                  <a:spcPct val="90000"/>
                </a:lnSpc>
                <a:spcBef>
                  <a:spcPts val="337"/>
                </a:spcBef>
                <a:buClr>
                  <a:srgbClr val="000000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Share conclusions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herri VandenAkker</dc:creator>
  <dc:description/>
  <cp:keywords/>
  <dc:language>en-US</dc:language>
  <cp:lastModifiedBy>Sherri VandenAkker</cp:lastModifiedBy>
  <dcterms:modified xsi:type="dcterms:W3CDTF">2010-03-10T04:50:21Z</dcterms:modified>
  <cp:revision>1</cp:revision>
  <dc:subject/>
  <dc:title>“Cognitive Apprenticeship” Allan Collins</dc:title>
</cp:coreProperties>
</file>