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677B-6559-42B0-8AAA-22E5418D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D3AA-4590-4E1E-9849-326A8E5C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B401-97D5-42D0-A25D-3B422865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BCA0-E12E-44CA-AA82-9788FC9A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9DB6-6126-4EDC-98AE-271E4B7F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C55C-DAA8-4B3D-BE7A-31EDA952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3942-ACBC-4B6C-8CEF-DABA82A6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B141-4781-4D14-854D-908A256F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1643-0D19-48D2-A407-779978E6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7AD-2295-4FE6-8341-46D82AEC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A9F9-ED50-4897-94D0-CC84AF3D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A456-B151-4F43-B6B5-068E98CB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C27E-B9AF-43E9-8768-8DE77E3AC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362320"/>
            <a:ext cx="129528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2362320"/>
            <a:ext cx="2057400" cy="28191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33526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2743200"/>
            <a:ext cx="3886200" cy="1905120"/>
          </a:xfrm>
          <a:prstGeom prst="ellipse">
            <a:avLst/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2286000" y="2361960"/>
            <a:ext cx="53352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4495680"/>
            <a:ext cx="228600" cy="6098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2743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Youth%2520Group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1003320" cy="990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76720" y="4038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onic-youth" descr=""/>
          <p:cNvPicPr/>
          <p:nvPr/>
        </p:nvPicPr>
        <p:blipFill>
          <a:blip r:embed="rId2"/>
          <a:stretch/>
        </p:blipFill>
        <p:spPr>
          <a:xfrm>
            <a:off x="4648320" y="3276720"/>
            <a:ext cx="121896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1828800"/>
            <a:ext cx="22860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ing many pres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371600" y="23623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2819520"/>
            <a:ext cx="129564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6840" y="28954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837720" y="3352680"/>
            <a:ext cx="30492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733920"/>
            <a:ext cx="121896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7828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62120" y="4267080"/>
            <a:ext cx="380880" cy="533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800600"/>
            <a:ext cx="1219320" cy="45720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8006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5105520"/>
            <a:ext cx="190512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5638680"/>
            <a:ext cx="22860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943600"/>
            <a:ext cx="190512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120" y="525780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5486400"/>
            <a:ext cx="1218960" cy="45720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6960" y="550080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4724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4343400"/>
            <a:ext cx="1219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4267080"/>
            <a:ext cx="190476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2840" y="4191120"/>
            <a:ext cx="190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ertainty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utur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2514600"/>
            <a:ext cx="15238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3352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514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b/marri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467480" y="2971800"/>
            <a:ext cx="1526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315200" y="3886200"/>
            <a:ext cx="228600" cy="4572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495680" y="2057040"/>
            <a:ext cx="3812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1523880"/>
            <a:ext cx="22860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0040" y="1523880"/>
            <a:ext cx="1425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 savv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581280" y="12949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762120"/>
            <a:ext cx="160020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4720" y="7621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gs/tex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63120" y="595800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fitting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72000" y="1066320"/>
            <a:ext cx="45720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533520"/>
            <a:ext cx="190476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cial netwo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867280" y="1219320"/>
            <a:ext cx="5335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8380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5840" y="8524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715000" y="1981080"/>
            <a:ext cx="762120" cy="7632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17524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13920" y="17906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ph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1218960" y="1371600"/>
            <a:ext cx="53316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14400"/>
            <a:ext cx="17524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9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8720" y="9144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er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143000" y="60912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2514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590920" y="4343400"/>
            <a:ext cx="304560" cy="38088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4724280"/>
            <a:ext cx="190512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0"/>
            <a:ext cx="1981440" cy="609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mily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437920" y="5257800"/>
            <a:ext cx="304920" cy="38088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5638680"/>
            <a:ext cx="1981080" cy="457200"/>
          </a:xfrm>
          <a:prstGeom prst="hexagon">
            <a:avLst>
              <a:gd name="adj" fmla="val 10832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629400" y="5714640"/>
            <a:ext cx="68580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5334120"/>
            <a:ext cx="137160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e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2057400"/>
            <a:ext cx="3045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2286000"/>
            <a:ext cx="161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648320"/>
            <a:ext cx="158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mult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llig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6095880"/>
            <a:ext cx="457200" cy="30492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6248520"/>
            <a:ext cx="1752480" cy="609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s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eng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2880" y="3276720"/>
            <a:ext cx="117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 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990720" y="2133720"/>
            <a:ext cx="4572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828800"/>
            <a:ext cx="10666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2:46:10Z</dcterms:created>
  <dc:creator>Dara</dc:creator>
  <dc:description/>
  <dc:language>en-US</dc:language>
  <cp:lastModifiedBy>Dara</cp:lastModifiedBy>
  <dcterms:modified xsi:type="dcterms:W3CDTF">2010-02-14T18:53:34Z</dcterms:modified>
  <cp:revision>13</cp:revision>
  <dc:subject/>
  <dc:title>PowerPoint Presentation</dc:title>
</cp:coreProperties>
</file>