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863F-1AF5-4AC0-9CB5-860557B0E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EDEB-1320-4253-A26B-2D8C6F93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8A58-AA2D-4F86-97D8-23899C5E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965F-F32C-4A4E-8C5C-FC4F8E5E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A34F-6EDE-43BD-A8CC-61527CDD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8803-4CFA-40E6-BF39-1F936C21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FD28-4BF0-4149-B192-7F766881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61C7-AB65-47D4-8E74-F4E1D87C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B3C3-D0A6-4BE3-A4F5-81CE7047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1E4C-8E1A-4E18-A2E8-17FB2F5F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934C-00A9-460B-8FF2-79C475F5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99D0-2FE0-4487-9AC3-070CABE0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1842-1B26-4FAE-85BE-B03C72FA5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4120" y="2362320"/>
            <a:ext cx="129528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43200" y="2362320"/>
            <a:ext cx="2057400" cy="28191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3352680"/>
            <a:ext cx="16002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2743200"/>
            <a:ext cx="3886200" cy="1905120"/>
          </a:xfrm>
          <a:prstGeom prst="ellipse">
            <a:avLst/>
          </a:prstGeom>
          <a:solidFill>
            <a:srgbClr val="ffffff"/>
          </a:solidFill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2286000" y="2361960"/>
            <a:ext cx="533520" cy="685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57800" y="4495680"/>
            <a:ext cx="228600" cy="6098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2743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Youth%2520Group" descr=""/>
          <p:cNvPicPr/>
          <p:nvPr/>
        </p:nvPicPr>
        <p:blipFill>
          <a:blip r:embed="rId1"/>
          <a:stretch/>
        </p:blipFill>
        <p:spPr>
          <a:xfrm>
            <a:off x="2819520" y="3124080"/>
            <a:ext cx="1003320" cy="990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76720" y="4038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onic-youth" descr=""/>
          <p:cNvPicPr/>
          <p:nvPr/>
        </p:nvPicPr>
        <p:blipFill>
          <a:blip r:embed="rId2"/>
          <a:stretch/>
        </p:blipFill>
        <p:spPr>
          <a:xfrm>
            <a:off x="4648320" y="3276720"/>
            <a:ext cx="121896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71600" y="1828800"/>
            <a:ext cx="22860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cing many pres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371600" y="23623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2819520"/>
            <a:ext cx="129564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6840" y="289548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837720" y="3352680"/>
            <a:ext cx="30492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3733920"/>
            <a:ext cx="121896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7828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62120" y="4267080"/>
            <a:ext cx="380880" cy="5335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800600"/>
            <a:ext cx="1219320" cy="45720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48006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5105520"/>
            <a:ext cx="190512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ty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5638680"/>
            <a:ext cx="22860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5943600"/>
            <a:ext cx="190512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09120" y="5257800"/>
            <a:ext cx="2286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5486400"/>
            <a:ext cx="1218960" cy="45720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6960" y="550080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u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86400" y="4724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4343400"/>
            <a:ext cx="12193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4267080"/>
            <a:ext cx="190476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2840" y="4191120"/>
            <a:ext cx="190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certainty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utur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34320" y="2514600"/>
            <a:ext cx="152388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00800" y="33526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25146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b/marri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7467480" y="2971800"/>
            <a:ext cx="1526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7315200" y="3886200"/>
            <a:ext cx="228600" cy="457200"/>
          </a:xfrm>
          <a:prstGeom prst="line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495680" y="2057040"/>
            <a:ext cx="38124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1523880"/>
            <a:ext cx="22860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16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90040" y="1523880"/>
            <a:ext cx="1425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 savv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3581280" y="1294920"/>
            <a:ext cx="45720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762120"/>
            <a:ext cx="160020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4720" y="7621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gs/tex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63120" y="595800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fitting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572000" y="1066320"/>
            <a:ext cx="457200" cy="3812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533520"/>
            <a:ext cx="190476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cial networ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867280" y="1219320"/>
            <a:ext cx="53352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838080"/>
            <a:ext cx="16002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65840" y="8524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715000" y="1981080"/>
            <a:ext cx="762120" cy="76320"/>
          </a:xfrm>
          <a:prstGeom prst="line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1752480"/>
            <a:ext cx="16002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13920" y="179064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 ph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1218960" y="1371600"/>
            <a:ext cx="53316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914400"/>
            <a:ext cx="175248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91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8720" y="91440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er 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143000" y="609120"/>
            <a:ext cx="2286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10280" y="2514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3429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590920" y="4343400"/>
            <a:ext cx="30456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4724280"/>
            <a:ext cx="190512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0"/>
            <a:ext cx="1981440" cy="60948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mily 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437920" y="5257800"/>
            <a:ext cx="30492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5638680"/>
            <a:ext cx="1981080" cy="457200"/>
          </a:xfrm>
          <a:prstGeom prst="hexagon">
            <a:avLst>
              <a:gd name="adj" fmla="val 108327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proces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629400" y="5714640"/>
            <a:ext cx="68580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5334120"/>
            <a:ext cx="137160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ien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2057400"/>
            <a:ext cx="30456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2286000"/>
            <a:ext cx="161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4648320"/>
            <a:ext cx="158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mult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llig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6095880"/>
            <a:ext cx="45720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6248520"/>
            <a:ext cx="1752480" cy="60948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s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enga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2880" y="3276720"/>
            <a:ext cx="117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 af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990720" y="2133720"/>
            <a:ext cx="4572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828800"/>
            <a:ext cx="106668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2:46:10Z</dcterms:created>
  <dc:creator>Dara</dc:creator>
  <dc:description/>
  <dc:language>en-US</dc:language>
  <cp:lastModifiedBy>Dara</cp:lastModifiedBy>
  <dcterms:modified xsi:type="dcterms:W3CDTF">2010-02-14T18:21:18Z</dcterms:modified>
  <cp:revision>12</cp:revision>
  <dc:subject/>
  <dc:title>PowerPoint Presentation</dc:title>
</cp:coreProperties>
</file>