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27D-7A88-40E3-84FC-62578E78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687-A0EC-44AD-8362-FE0DB61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35D-A45A-4AE0-BA76-6369F304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CC2-C8A6-4243-AAFB-0CCD499E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E6F-C3CF-4DD7-850F-50A96D1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EBD-7BE6-4935-8F26-E79CE58E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294-8563-4A31-A659-0C0A448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123-06D8-46D8-9FBA-C7034F4F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B21-3C58-4FD4-8B50-677D552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F72-3D91-4ADA-969C-0C79AF66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12A-C063-4CF1-A8B6-295EA7B3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113-16AF-46F5-BB7C-91468C3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E1D-A03E-4D2C-85CA-C52D1389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21:18Z</dcterms:modified>
  <cp:revision>12</cp:revision>
  <dc:subject/>
  <dc:title>PowerPoint Presentation</dc:title>
</cp:coreProperties>
</file>