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961-370F-4AB7-9B98-18815D4B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DC4-03ED-415E-AD84-3DE1716E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BF9-F6D6-4D68-B807-90928B74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DC4-8F02-40BC-8087-48139378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749-B911-49ED-92CD-FEB6723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6DF-7EEB-4BED-8C92-989B7B26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996-4DBB-4FA4-9CD3-19327303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AF7-E36A-4628-9540-23F1FCCB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68B-3F02-4B06-A5BD-D73A7944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224A-54BC-4D2E-A09D-6DD3E09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667-151F-4EA4-927B-9B5BA899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9F8-3E4F-4481-89BF-2019E67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DF60-79C4-4CAD-A620-F05B7AED9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21:18Z</dcterms:modified>
  <cp:revision>12</cp:revision>
  <dc:subject/>
  <dc:title>PowerPoint Presentation</dc:title>
</cp:coreProperties>
</file>