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D86-56E6-4A7D-BCD3-997985C3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D35-4A32-4D43-9AD5-4EF0D2B8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174-5F90-481F-9E06-3535C27C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84D-6EAA-4E10-9155-0FE148D9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E94-AB56-4566-BE9E-6541FBEF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952-C18F-49C3-82E7-DECFBFB8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29C-FA5C-4B7A-BA97-935E1E14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85D-E2B1-4335-94CF-41C958FE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D59-2175-4E5B-A0A8-725EC43A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E33-7302-4B7E-8EB8-A621AD4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526-A7A6-4298-9250-64ABCEB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BBA-0534-4F63-894A-8E919435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FCC6-1638-4903-AEBC-B2208E299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21:18Z</dcterms:modified>
  <cp:revision>12</cp:revision>
  <dc:subject/>
  <dc:title>PowerPoint Presentation</dc:title>
</cp:coreProperties>
</file>