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E79-EF17-4E69-B3A5-868AEA32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EA1-9A3A-4B32-8B54-0DA3D515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87F8-5AC3-4680-8D11-731C00BD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31E-B829-4512-84C0-9AD1257A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97D2-FDA6-44B2-A035-0F5903CF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946-CA24-43CB-91E9-2AB28481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F86-0B33-4579-A6B1-30064FB8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ACF-9A97-46C9-95AD-B051D61C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2A9-3923-4DDB-9D0A-79875B87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71D-0F1F-4C62-A3E2-1D786523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AE0-A1A7-46F2-B9DE-30D5D8B3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86F-A4A1-4BC3-B60A-3E468C37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96BF-610A-42E9-9613-EC6A048A1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362320"/>
            <a:ext cx="129528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2362320"/>
            <a:ext cx="2057400" cy="28191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3526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743200"/>
            <a:ext cx="3886200" cy="190512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2286000" y="2361960"/>
            <a:ext cx="53352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4495680"/>
            <a:ext cx="228600" cy="6098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Youth%2520Group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1003320" cy="99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4038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onic-youth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121896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182880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ing many pres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371600" y="23623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819520"/>
            <a:ext cx="129564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6840" y="28954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37720" y="3352680"/>
            <a:ext cx="30492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733920"/>
            <a:ext cx="12189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7828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62120" y="4267080"/>
            <a:ext cx="380880" cy="533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800600"/>
            <a:ext cx="121932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8006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5105520"/>
            <a:ext cx="190512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5638680"/>
            <a:ext cx="22860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94360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120" y="525780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486400"/>
            <a:ext cx="121896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6960" y="55008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724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34340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4267080"/>
            <a:ext cx="190476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2840" y="4191120"/>
            <a:ext cx="190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ertainty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utur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2514600"/>
            <a:ext cx="15238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352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514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b/marri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467480" y="2971800"/>
            <a:ext cx="1526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315200" y="3886200"/>
            <a:ext cx="228600" cy="457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495680" y="2057040"/>
            <a:ext cx="3812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152388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0040" y="1523880"/>
            <a:ext cx="1425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 sav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581280" y="12949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762120"/>
            <a:ext cx="16002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4720" y="7621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s/tex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3120" y="59580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fitting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72000" y="1066320"/>
            <a:ext cx="45720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533520"/>
            <a:ext cx="19047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ial net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867280" y="121932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8380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5840" y="852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15000" y="1981080"/>
            <a:ext cx="762120" cy="7632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17524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13920" y="1790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218960" y="1371600"/>
            <a:ext cx="53316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14400"/>
            <a:ext cx="17524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9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720" y="9144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143000" y="60912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514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590920" y="4343400"/>
            <a:ext cx="304560" cy="38088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72428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0"/>
            <a:ext cx="198144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mily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37920" y="5257800"/>
            <a:ext cx="304920" cy="38088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5638680"/>
            <a:ext cx="1981080" cy="457200"/>
          </a:xfrm>
          <a:prstGeom prst="hexagon">
            <a:avLst>
              <a:gd name="adj" fmla="val 10832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29400" y="5714640"/>
            <a:ext cx="68580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5334120"/>
            <a:ext cx="13716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e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2057400"/>
            <a:ext cx="3045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2286000"/>
            <a:ext cx="161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648320"/>
            <a:ext cx="158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mu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lig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095880"/>
            <a:ext cx="457200" cy="30492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6248520"/>
            <a:ext cx="175248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eng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2880" y="3276720"/>
            <a:ext cx="117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990720" y="213372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28800"/>
            <a:ext cx="10666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2:46:10Z</dcterms:created>
  <dc:creator>Dara</dc:creator>
  <dc:description/>
  <dc:language>en-US</dc:language>
  <cp:lastModifiedBy>Dara</cp:lastModifiedBy>
  <dcterms:modified xsi:type="dcterms:W3CDTF">2010-02-14T18:53:34Z</dcterms:modified>
  <cp:revision>13</cp:revision>
  <dc:subject/>
  <dc:title>PowerPoint Presentation</dc:title>
</cp:coreProperties>
</file>