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52AC5-15E1-46DE-B282-DD9D76B53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6D335-F0F0-4587-BE4C-0BAAA1C53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59792-0AD4-4615-966F-1C7CB90AB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020E4-85FB-4169-ABCD-590A81F21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93070-DD35-4D4E-82C7-AF4208080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9BD8A-8460-4B8C-AD49-8563B28CB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6C887-4233-4ADF-B6B6-45317ABF1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DF95A-D308-411C-AED5-F614CB152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AF183-E134-4F0B-A432-4D012F179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047EE-1AED-4A9A-98CC-FB1D1C166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5C596-5E77-4CC0-A4BE-C98A305B6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AB88E-7C55-425C-AAC7-4882B17EC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0EF36-5DAD-4A16-88A0-ACBA85E32F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34120" y="2362320"/>
            <a:ext cx="1295280" cy="533160"/>
          </a:xfrm>
          <a:prstGeom prst="flowChartPreparat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743200" y="2362320"/>
            <a:ext cx="2057400" cy="2819160"/>
          </a:xfrm>
          <a:prstGeom prst="line">
            <a:avLst/>
          </a:prstGeom>
          <a:ln w="381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705720" y="3352680"/>
            <a:ext cx="1600200" cy="533520"/>
          </a:xfrm>
          <a:prstGeom prst="flowChartPreparat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362320" y="2743200"/>
            <a:ext cx="3886200" cy="1905120"/>
          </a:xfrm>
          <a:prstGeom prst="ellipse">
            <a:avLst/>
          </a:prstGeom>
          <a:solidFill>
            <a:srgbClr val="ffffff"/>
          </a:solidFill>
          <a:ln w="47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H="1" flipV="1">
            <a:off x="2286000" y="2361960"/>
            <a:ext cx="533520" cy="6858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257800" y="4495680"/>
            <a:ext cx="228600" cy="609840"/>
          </a:xfrm>
          <a:prstGeom prst="line">
            <a:avLst/>
          </a:prstGeom>
          <a:ln w="381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048120" y="274320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Youth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Youth%2520Group" descr=""/>
          <p:cNvPicPr/>
          <p:nvPr/>
        </p:nvPicPr>
        <p:blipFill>
          <a:blip r:embed="rId1"/>
          <a:stretch/>
        </p:blipFill>
        <p:spPr>
          <a:xfrm>
            <a:off x="2819520" y="3124080"/>
            <a:ext cx="1003320" cy="9907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276720" y="40384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of To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sonic-youth" descr=""/>
          <p:cNvPicPr/>
          <p:nvPr/>
        </p:nvPicPr>
        <p:blipFill>
          <a:blip r:embed="rId2"/>
          <a:stretch/>
        </p:blipFill>
        <p:spPr>
          <a:xfrm>
            <a:off x="4648320" y="3276720"/>
            <a:ext cx="1218960" cy="8380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371600" y="1828800"/>
            <a:ext cx="2286000" cy="533520"/>
          </a:xfrm>
          <a:prstGeom prst="flowChartPreparat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acing many pres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1371600" y="2362320"/>
            <a:ext cx="45720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2819520"/>
            <a:ext cx="1295640" cy="533160"/>
          </a:xfrm>
          <a:prstGeom prst="flowChartPreparat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6840" y="2895480"/>
            <a:ext cx="132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ear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837720" y="3352680"/>
            <a:ext cx="30492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04920" y="3733920"/>
            <a:ext cx="1218960" cy="533160"/>
          </a:xfrm>
          <a:prstGeom prst="flowChartPreparat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33520" y="3782880"/>
            <a:ext cx="81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762120" y="4267080"/>
            <a:ext cx="380880" cy="53352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0" y="4800600"/>
            <a:ext cx="1219320" cy="457200"/>
          </a:xfrm>
          <a:prstGeom prst="flowChartPreparat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04920" y="4800600"/>
            <a:ext cx="6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5105520"/>
            <a:ext cx="1905120" cy="533160"/>
          </a:xfrm>
          <a:prstGeom prst="flowChartPreparat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ntity iss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486400" y="5638680"/>
            <a:ext cx="228600" cy="304920"/>
          </a:xfrm>
          <a:prstGeom prst="line">
            <a:avLst/>
          </a:prstGeom>
          <a:ln w="381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029200" y="5943600"/>
            <a:ext cx="1905120" cy="533520"/>
          </a:xfrm>
          <a:prstGeom prst="flowChartPreparat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609120" y="5257800"/>
            <a:ext cx="228600" cy="2286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04920" y="5486400"/>
            <a:ext cx="1218960" cy="457200"/>
          </a:xfrm>
          <a:prstGeom prst="flowChartPreparat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16960" y="5500800"/>
            <a:ext cx="74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ru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486400" y="4724280"/>
            <a:ext cx="184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638680" y="4343400"/>
            <a:ext cx="121932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705720" y="4267080"/>
            <a:ext cx="1904760" cy="533520"/>
          </a:xfrm>
          <a:prstGeom prst="flowChartPreparat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702840" y="4191120"/>
            <a:ext cx="1907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certainty wi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future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934320" y="2514600"/>
            <a:ext cx="1523880" cy="533520"/>
          </a:xfrm>
          <a:prstGeom prst="flowChartPreparat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00800" y="3352680"/>
            <a:ext cx="184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010280" y="251460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ob/marri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7467480" y="2971800"/>
            <a:ext cx="15264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7315200" y="3886200"/>
            <a:ext cx="228600" cy="457200"/>
          </a:xfrm>
          <a:prstGeom prst="line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943600" y="335268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4495680" y="2057040"/>
            <a:ext cx="381240" cy="6094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809880" y="1523880"/>
            <a:ext cx="2286000" cy="533520"/>
          </a:xfrm>
          <a:prstGeom prst="flowChartPreparat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114800" y="1600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190040" y="1523880"/>
            <a:ext cx="142596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 savv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 flipV="1">
            <a:off x="3581280" y="1294920"/>
            <a:ext cx="457200" cy="304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666880" y="762120"/>
            <a:ext cx="1600200" cy="533160"/>
          </a:xfrm>
          <a:prstGeom prst="flowChartPreparat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664720" y="76212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logs/tex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163120" y="5958000"/>
            <a:ext cx="145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 fitting 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4572000" y="1066320"/>
            <a:ext cx="45720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191120" y="533520"/>
            <a:ext cx="1904760" cy="533160"/>
          </a:xfrm>
          <a:prstGeom prst="flowChartPreparat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cial network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i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867280" y="1219320"/>
            <a:ext cx="53352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172200" y="838080"/>
            <a:ext cx="1600200" cy="533520"/>
          </a:xfrm>
          <a:prstGeom prst="flowChartPreparat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65840" y="85248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Po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5715000" y="1981080"/>
            <a:ext cx="762120" cy="76320"/>
          </a:xfrm>
          <a:prstGeom prst="line">
            <a:avLst/>
          </a:prstGeom>
          <a:ln w="349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400800" y="1752480"/>
            <a:ext cx="1600200" cy="533520"/>
          </a:xfrm>
          <a:prstGeom prst="flowChartPreparat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613920" y="1790640"/>
            <a:ext cx="126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ell ph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H="1" flipV="1">
            <a:off x="1218960" y="1371600"/>
            <a:ext cx="53316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914400"/>
            <a:ext cx="1752480" cy="533520"/>
          </a:xfrm>
          <a:prstGeom prst="flowChartPreparat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520" y="9144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78720" y="914400"/>
            <a:ext cx="15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er pres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1143000" y="609120"/>
            <a:ext cx="228600" cy="2286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010280" y="25146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553080" y="34290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2590920" y="4343400"/>
            <a:ext cx="304560" cy="380880"/>
          </a:xfrm>
          <a:prstGeom prst="line">
            <a:avLst/>
          </a:prstGeom>
          <a:ln w="38160">
            <a:solidFill>
              <a:srgbClr val="99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828800" y="4724280"/>
            <a:ext cx="1905120" cy="533520"/>
          </a:xfrm>
          <a:prstGeom prst="flowChartPreparat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09480" y="0"/>
            <a:ext cx="1981440" cy="609480"/>
          </a:xfrm>
          <a:prstGeom prst="flowChartPreparat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amily pres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2437920" y="5257800"/>
            <a:ext cx="304920" cy="380880"/>
          </a:xfrm>
          <a:prstGeom prst="line">
            <a:avLst/>
          </a:prstGeom>
          <a:ln w="38160">
            <a:solidFill>
              <a:srgbClr val="99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00200" y="5638680"/>
            <a:ext cx="1981080" cy="457200"/>
          </a:xfrm>
          <a:prstGeom prst="hexagon">
            <a:avLst>
              <a:gd name="adj" fmla="val 108327"/>
              <a:gd name="vf" fmla="val 11547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process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6629400" y="5714640"/>
            <a:ext cx="685800" cy="304920"/>
          </a:xfrm>
          <a:prstGeom prst="line">
            <a:avLst/>
          </a:prstGeom>
          <a:ln w="381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238880" y="5334120"/>
            <a:ext cx="1371600" cy="533160"/>
          </a:xfrm>
          <a:prstGeom prst="flowChartPreparat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ien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334120" y="2057400"/>
            <a:ext cx="30456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105520" y="2286000"/>
            <a:ext cx="1614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gita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tiv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979640" y="4648320"/>
            <a:ext cx="1587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s multi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lligen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590920" y="6095880"/>
            <a:ext cx="457200" cy="304920"/>
          </a:xfrm>
          <a:prstGeom prst="line">
            <a:avLst/>
          </a:prstGeom>
          <a:ln w="38160">
            <a:solidFill>
              <a:srgbClr val="99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819520" y="6248520"/>
            <a:ext cx="1752480" cy="609480"/>
          </a:xfrm>
          <a:prstGeom prst="flowChartPreparat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ants 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 engag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932880" y="3276720"/>
            <a:ext cx="1177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fe af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ho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990720" y="2133720"/>
            <a:ext cx="45720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1828800"/>
            <a:ext cx="1066680" cy="533520"/>
          </a:xfrm>
          <a:prstGeom prst="flowChartPreparat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du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1T02:46:10Z</dcterms:created>
  <dc:creator>Dara</dc:creator>
  <dc:description/>
  <dc:language>en-US</dc:language>
  <cp:lastModifiedBy>Dara</cp:lastModifiedBy>
  <dcterms:modified xsi:type="dcterms:W3CDTF">2010-02-14T18:53:34Z</dcterms:modified>
  <cp:revision>13</cp:revision>
  <dc:subject/>
  <dc:title>PowerPoint Presentation</dc:title>
</cp:coreProperties>
</file>