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5ED-0B06-49D2-BDF0-B642E699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C36-15FE-4F8C-8D64-7AB5ED74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7EE-DCA6-48EB-86B8-CFC01FD2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4F6-2B7D-4C87-AB1A-D1C933CA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1A7-24A7-4CDD-B087-819891A8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D74-4319-4DC4-A8F8-3BC5942D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014-143A-4A7E-89D8-085B35D2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C28-D2E1-487E-9177-602E31E9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B9E-072D-4890-BD79-F638E34E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999-F5E7-40B0-8211-A6F8E93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820-F3E4-43D3-B218-FEF04BAF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019-8E87-471F-BBD2-08CE713B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625C-4CE7-4568-9526-E4D36C946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362320"/>
            <a:ext cx="129528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2362320"/>
            <a:ext cx="2057400" cy="28191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33526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743200"/>
            <a:ext cx="3886200" cy="190512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286000" y="2361960"/>
            <a:ext cx="53352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4495680"/>
            <a:ext cx="228600" cy="60984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t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Youth%2520Group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1003320" cy="990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4038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onic-youth" descr=""/>
          <p:cNvPicPr/>
          <p:nvPr/>
        </p:nvPicPr>
        <p:blipFill>
          <a:blip r:embed="rId2"/>
          <a:stretch/>
        </p:blipFill>
        <p:spPr>
          <a:xfrm>
            <a:off x="4648320" y="3276720"/>
            <a:ext cx="121896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82880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ing many pres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371600" y="23623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819520"/>
            <a:ext cx="129564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6840" y="28954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37720" y="3352680"/>
            <a:ext cx="30492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733920"/>
            <a:ext cx="12189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7828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62120" y="4267080"/>
            <a:ext cx="380880" cy="533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800600"/>
            <a:ext cx="121932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8006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105520"/>
            <a:ext cx="190512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5638680"/>
            <a:ext cx="22860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94360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09120" y="52578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5486400"/>
            <a:ext cx="1218960" cy="45720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6960" y="5500800"/>
            <a:ext cx="74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4724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4343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4267080"/>
            <a:ext cx="190476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2840" y="4191120"/>
            <a:ext cx="190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certainty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tu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514600"/>
            <a:ext cx="15238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352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514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/marri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467480" y="2971800"/>
            <a:ext cx="1526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7315200" y="3886200"/>
            <a:ext cx="228600" cy="4572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495680" y="2057040"/>
            <a:ext cx="381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1523880"/>
            <a:ext cx="22860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148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0040" y="1523880"/>
            <a:ext cx="1425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 savv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581280" y="12949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762120"/>
            <a:ext cx="16002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4720" y="7621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s/tex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63120" y="59580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fitting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1066320"/>
            <a:ext cx="45720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533520"/>
            <a:ext cx="190476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cial 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67280" y="1219320"/>
            <a:ext cx="5335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8380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8524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715000" y="1981080"/>
            <a:ext cx="762120" cy="763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1752480"/>
            <a:ext cx="160020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13920" y="17906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ph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1218960" y="1371600"/>
            <a:ext cx="53316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14400"/>
            <a:ext cx="17524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9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8720" y="9144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43000" y="6091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590920" y="4343400"/>
            <a:ext cx="304560" cy="38088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4724280"/>
            <a:ext cx="190512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0"/>
            <a:ext cx="198144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mily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437920" y="5257800"/>
            <a:ext cx="304920" cy="38088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5638680"/>
            <a:ext cx="1981080" cy="457200"/>
          </a:xfrm>
          <a:prstGeom prst="hexagon">
            <a:avLst>
              <a:gd name="adj" fmla="val 10832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629400" y="5714640"/>
            <a:ext cx="685800" cy="304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334120"/>
            <a:ext cx="1371600" cy="533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e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2057400"/>
            <a:ext cx="3045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2286000"/>
            <a:ext cx="16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4648320"/>
            <a:ext cx="158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095880"/>
            <a:ext cx="457200" cy="30492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6248520"/>
            <a:ext cx="175248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s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eng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2880" y="3276720"/>
            <a:ext cx="117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990720" y="213372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828800"/>
            <a:ext cx="1066680" cy="53352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2:46:10Z</dcterms:created>
  <dc:creator>Dara</dc:creator>
  <dc:description/>
  <dc:language>en-US</dc:language>
  <cp:lastModifiedBy>Dara</cp:lastModifiedBy>
  <dcterms:modified xsi:type="dcterms:W3CDTF">2010-02-14T18:53:34Z</dcterms:modified>
  <cp:revision>13</cp:revision>
  <dc:subject/>
  <dc:title>PowerPoint Presentation</dc:title>
</cp:coreProperties>
</file>