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4DA2-38AF-4065-9D48-242EFD095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1F51-8C2F-4023-8787-50B9805EE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2E38-E03D-4A23-BE19-149284897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B411-6805-470B-A2F9-7B2E88CA1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556B-5AE1-443F-967C-C9C119490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D744-34EC-4089-9A32-3874E922F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D822-52CF-49D2-B101-E4BD087DF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2D4B-7E7D-49E3-BF52-5943A56D4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620A-D823-486C-8BCC-A70754B76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BEA1-7763-4783-B1D4-B6263B5D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9CAA-64C4-47AA-96F1-61809469E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0D32-E4BE-4D1B-ADA2-1C24A575B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60E1C-4DAD-40EC-B038-9106343850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743200"/>
            <a:ext cx="1600200" cy="84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Pedagog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rning by 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81080" y="533520"/>
            <a:ext cx="266724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ject Based learning: Students learn by attempting to achieve deign challen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05120" y="2057400"/>
            <a:ext cx="26668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BD Sequ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28800" y="3200400"/>
            <a:ext cx="27432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BD’s relationship to CB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00600" y="152280"/>
            <a:ext cx="274320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ear feedback in a timely man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00600" y="762120"/>
            <a:ext cx="27432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st working de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00600" y="1143000"/>
            <a:ext cx="27432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ience Ba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685800" y="9144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14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76212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4724280" y="304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4280" y="3049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724280" y="7621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724280" y="762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4280" y="12952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00200" y="29718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676520" y="2209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76520" y="2209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876920" y="1828800"/>
            <a:ext cx="274320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ign/Re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15000" y="2133720"/>
            <a:ext cx="76320" cy="380880"/>
          </a:xfrm>
          <a:prstGeom prst="downArrow">
            <a:avLst>
              <a:gd name="adj1" fmla="val 50000"/>
              <a:gd name="adj2" fmla="val 1247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259092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ed to learn something n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91320" y="3200400"/>
            <a:ext cx="75960" cy="533520"/>
          </a:xfrm>
          <a:prstGeom prst="downArrow">
            <a:avLst>
              <a:gd name="adj1" fmla="val 50000"/>
              <a:gd name="adj2" fmla="val 1755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81480" y="3809880"/>
            <a:ext cx="1524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vestigate and expl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791320" y="4419720"/>
            <a:ext cx="75960" cy="457200"/>
          </a:xfrm>
          <a:prstGeom prst="downArrow">
            <a:avLst>
              <a:gd name="adj1" fmla="val 50000"/>
              <a:gd name="adj2" fmla="val 1504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105520" y="48769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y to design in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2880" y="1676520"/>
            <a:ext cx="1600200" cy="380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58000" y="1905120"/>
            <a:ext cx="20574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room Scrip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629400" y="2514600"/>
            <a:ext cx="114300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 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848720" y="2514600"/>
            <a:ext cx="106668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ourse 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400800" y="2057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7162920" y="22096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153280" y="22096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3276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3657600"/>
            <a:ext cx="28195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all groups combined with whole class 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4343400"/>
            <a:ext cx="4114800" cy="214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rning principles from CB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rning will happen best in contexts of trying to achieve goals of inter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rning must be meaningful to individ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ying cases allows further 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rn from each o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mediate feedback is cru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81952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7180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0020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0" y="2133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13:50:00Z</dcterms:created>
  <dc:creator>administrator</dc:creator>
  <dc:description/>
  <dc:language>en-US</dc:language>
  <cp:lastModifiedBy>administrator</cp:lastModifiedBy>
  <dcterms:modified xsi:type="dcterms:W3CDTF">2010-03-08T14:04:34Z</dcterms:modified>
  <cp:revision>2</cp:revision>
  <dc:subject/>
  <dc:title>Slide 1</dc:title>
</cp:coreProperties>
</file>