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452-5A58-40B5-A368-6F02D843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1E3-6E3E-48A6-B3D9-FBA11DFC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F8C-8299-4A59-AE92-6FA1A69C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BC5-AE62-4E1B-8655-D2125017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A82-A1A3-4924-A441-552AA925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A18-AE6C-46D7-A040-A0CCD0D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608-A29A-4911-B204-1EACAC10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2CB-5B6D-4CAD-BEC6-6BC4153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920-009C-4FFE-AFFF-693032C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F40-0353-4E71-8403-1442F8DE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656-EF51-4683-9290-476BA02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CFB-651C-44D0-B8ED-9FCE09B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016-AF5C-4F71-85DF-657F72B4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43200"/>
            <a:ext cx="160020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edag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by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33520"/>
            <a:ext cx="2667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Based learning: Students learn by attempting to achieve deign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266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2004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’s relationship to C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52280"/>
            <a:ext cx="2743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feedback in a timely m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76212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working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1430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762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30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04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762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762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295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971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765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828800"/>
            <a:ext cx="27432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/Re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1337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learn somethi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2004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te and exp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4197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8769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to design i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676520"/>
            <a:ext cx="1600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905120"/>
            <a:ext cx="2057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514600"/>
            <a:ext cx="1143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2514600"/>
            <a:ext cx="1066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urse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162920" y="2209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2819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combined with whole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343400"/>
            <a:ext cx="4114800" cy="214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principles from CB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will happen best in contexts of trying to achieve goals of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must be meaningful to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ing cases allows furthe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 from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diate feedback is cru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3:50:00Z</dcterms:created>
  <dc:creator>administrator</dc:creator>
  <dc:description/>
  <dc:language>en-US</dc:language>
  <cp:lastModifiedBy>administrator</cp:lastModifiedBy>
  <dcterms:modified xsi:type="dcterms:W3CDTF">2010-03-08T14:04:34Z</dcterms:modified>
  <cp:revision>2</cp:revision>
  <dc:subject/>
  <dc:title>Slide 1</dc:title>
</cp:coreProperties>
</file>