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DB2-88E2-4C51-8F61-5575B33E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952-D953-4155-9274-2C5A7F3E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FC4-78D3-42E8-B897-436A1C09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B79-73CA-47DD-9CFB-929757B3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DA0-9094-427B-8455-DCE04BB8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C44-4FEB-49A9-A065-4AFB8574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467-6469-4776-A954-D08945D5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CD5-DF45-46F3-A1A4-5462AFC3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118-AF9D-4D61-B611-68CFABEF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A9C-0D0A-4B2B-B773-3B70D887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51D-FF67-43CC-82E9-8E5C91E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28C-A1C0-4716-AC45-4DF68576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2DA9-73DA-4873-A8A9-8E7492EF7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43200"/>
            <a:ext cx="160020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Pedago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by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33520"/>
            <a:ext cx="26672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Based learning: Students learn by attempting to achieve deign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2057400"/>
            <a:ext cx="2666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D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20040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D’s relationship to C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52280"/>
            <a:ext cx="2743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feedback in a timely m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76212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working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114300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14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7621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24280" y="30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04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762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762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295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971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765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828800"/>
            <a:ext cx="27432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/Re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1337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590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learn somethi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20040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8098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te and exp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441972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48769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to design i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676520"/>
            <a:ext cx="16002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1905120"/>
            <a:ext cx="2057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room 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514600"/>
            <a:ext cx="1143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2514600"/>
            <a:ext cx="1066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urse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162920" y="2209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2209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657600"/>
            <a:ext cx="2819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groups combined with whole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4343400"/>
            <a:ext cx="4114800" cy="214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principles from CB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will happen best in contexts of trying to achieve goals of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must be meaningful to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ing cases allows furthe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 from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mediate feedback is cru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3:50:00Z</dcterms:created>
  <dc:creator>administrator</dc:creator>
  <dc:description/>
  <dc:language>en-US</dc:language>
  <cp:lastModifiedBy>administrator</cp:lastModifiedBy>
  <dcterms:modified xsi:type="dcterms:W3CDTF">2010-03-08T14:04:34Z</dcterms:modified>
  <cp:revision>2</cp:revision>
  <dc:subject/>
  <dc:title>Slide 1</dc:title>
</cp:coreProperties>
</file>