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9B92-F231-419F-864A-31232855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DBB-BBDC-4257-B4ED-3241AC3B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958-E3EE-4BBE-8399-0906C7ED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3A4-00C4-40E3-A537-EC095680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C871-F5EF-4F56-8070-FC1F6E88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CF7-0F2A-4A69-82C6-A14C0C9A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AC3B-0F56-42C3-A653-AB1348F7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90BB-A73E-4F25-BC9D-6D1C8FC4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A37-690B-45CF-BAE9-953776CF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99C-2767-41AF-8FCD-68134EE7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9744-AA48-46C5-8D2E-DF4198B3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A89A-38D1-4AB5-B4D3-E23EEF0C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1D82-F4E1-4C39-BE95-94EF16021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743200"/>
            <a:ext cx="1600200" cy="84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Pedagog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by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533520"/>
            <a:ext cx="26672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Based learning: Students learn by attempting to achieve deign challe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2057400"/>
            <a:ext cx="26668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BD 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3200400"/>
            <a:ext cx="2743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BD’s relationship to C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152280"/>
            <a:ext cx="2743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feedback in a timely m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762120"/>
            <a:ext cx="2743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 working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1143000"/>
            <a:ext cx="2743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ience 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85800" y="914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14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7621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724280" y="304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304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762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762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295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2971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676520" y="220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1828800"/>
            <a:ext cx="27432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/Re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15000" y="21337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25909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to learn somethi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3200400"/>
            <a:ext cx="75960" cy="533520"/>
          </a:xfrm>
          <a:prstGeom prst="downArrow">
            <a:avLst>
              <a:gd name="adj1" fmla="val 50000"/>
              <a:gd name="adj2" fmla="val 175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38098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estigate and expl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4419720"/>
            <a:ext cx="75960" cy="457200"/>
          </a:xfrm>
          <a:prstGeom prst="downArrow">
            <a:avLst>
              <a:gd name="adj1" fmla="val 50000"/>
              <a:gd name="adj2" fmla="val 1504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48769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y to design i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1676520"/>
            <a:ext cx="16002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1905120"/>
            <a:ext cx="20574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room Scri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2514600"/>
            <a:ext cx="11430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2514600"/>
            <a:ext cx="10666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ourse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2057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162920" y="22096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22096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657600"/>
            <a:ext cx="28195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 groups combined with whole class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4343400"/>
            <a:ext cx="4114800" cy="214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principles from CB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will happen best in contexts of trying to achieve goals of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must be meaningful to 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ying cases allows further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 from each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mediate feedback is cru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3:50:00Z</dcterms:created>
  <dc:creator>administrator</dc:creator>
  <dc:description/>
  <dc:language>en-US</dc:language>
  <cp:lastModifiedBy>administrator</cp:lastModifiedBy>
  <dcterms:modified xsi:type="dcterms:W3CDTF">2010-03-08T14:04:34Z</dcterms:modified>
  <cp:revision>2</cp:revision>
  <dc:subject/>
  <dc:title>Slide 1</dc:title>
</cp:coreProperties>
</file>