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88C-A830-4DFC-B85A-1D92B52A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256E-218C-4961-907F-E22AC182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1B0-2F3A-43FD-8ABE-49825CC7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853-3961-4A91-8AD2-8DA2B4F0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928-88C3-44F6-8825-573A8ACF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4E7-1465-4E71-AC2A-1F7DA05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E39-1C14-4F16-A320-D061249F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12D2-44C4-44E1-84FF-8FBB87F5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930-9EB3-4180-91A8-FA16846E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8A1-B72E-483B-9C22-1AADEFBC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CC9-3103-423C-9513-EB62D7C0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728-23DB-449F-9883-675563CD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6FFAB-F86C-4978-9602-B4F6F372C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2720880" cy="22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20" y="1184400"/>
            <a:ext cx="2184480" cy="270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1481040"/>
            <a:ext cx="2176560" cy="21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 little 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m the rain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"/>
            <a:ext cx="4800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ssoming Bu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celyn Mal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86200"/>
            <a:ext cx="34290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eeds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ginning of the flower's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beginning of this less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 will share a read a lou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iny Seed, and the students will disc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journey as little seeds in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little seed's journey in this book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486400"/>
            <a:ext cx="29718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nurture the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s by reflecting on this little seed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urney with each other and the teach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reat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llustrations to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 and the flower through the proces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3657600" cy="2514600"/>
          </a:xfrm>
          <a:prstGeom prst="roundRect">
            <a:avLst>
              <a:gd name="adj" fmla="val 60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al part of the lesson will ask the stud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work with a teacher and scan their images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chool comput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will expose them and get th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ited about the capabilities of technology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s will create a Power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ation of the students'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the paren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7432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25146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22:06Z</dcterms:created>
  <dc:creator>Jocelyn  Malloy</dc:creator>
  <dc:description/>
  <dc:language>en-US</dc:language>
  <cp:lastModifiedBy/>
  <cp:revision>1</cp:revision>
  <dc:subject/>
  <dc:title/>
</cp:coreProperties>
</file>