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1A6-C676-4D12-A8CD-7C4F6941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C29F-E517-408E-B65E-4DE63F0C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32D-8D46-44B9-9CAA-BA987D51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C14-7BEC-4D44-B4DA-3E49D7D5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F8A-D45B-4D76-B450-7860DA55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B6C-A907-49CB-8E8E-C42C9B47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C185-84B0-4F85-AAE0-34D5B734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46C-4AC8-4D8B-8B1C-779BD3EC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3E8-0D4E-4921-A81A-35A4D08E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158-AD0E-45FC-AA5E-E50F1B3F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39C-B92B-4F95-81AC-C2EE5242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431-3B4C-4D32-9761-6EE6994C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A78C0-6DDA-4306-B1C7-32939524A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2720880" cy="2271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0120" y="1184400"/>
            <a:ext cx="2184480" cy="2701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86200" y="1481040"/>
            <a:ext cx="2176560" cy="217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a little hel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m the rain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228600"/>
            <a:ext cx="48006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ssoming Bu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Jocelyn Mallo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886200"/>
            <a:ext cx="3429000" cy="1828800"/>
          </a:xfrm>
          <a:prstGeom prst="roundRect">
            <a:avLst>
              <a:gd name="adj" fmla="val 83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eeds represent 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ginning of the flower's journ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lso the beginning of this less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eacher will share a read a loud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iny Seed, and the students will discu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ir journey as little seeds in scho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lso the little seed's journey in this book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5486400"/>
            <a:ext cx="2971800" cy="1828800"/>
          </a:xfrm>
          <a:prstGeom prst="roundRect">
            <a:avLst>
              <a:gd name="adj" fmla="val 83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nurture the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eds by reflecting on this little seed'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urney with each other and the teacher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create tw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llustrations to represent 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ed and the flower through the proces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4114800"/>
            <a:ext cx="3657600" cy="2514600"/>
          </a:xfrm>
          <a:prstGeom prst="roundRect">
            <a:avLst>
              <a:gd name="adj" fmla="val 60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final part of the lesson will ask the stude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work with a teacher and scan their images 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chool computer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s will expose them and get th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ited about the capabilities of technology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eachers will create a Power 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sentation of the students'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share with the paren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2743200"/>
            <a:ext cx="1600200" cy="144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2514600"/>
            <a:ext cx="1600200" cy="144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0:22:06Z</dcterms:created>
  <dc:creator>Jocelyn  Malloy</dc:creator>
  <dc:description/>
  <dc:language>en-US</dc:language>
  <cp:lastModifiedBy/>
  <cp:revision>1</cp:revision>
  <dc:subject/>
  <dc:title/>
</cp:coreProperties>
</file>