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4D3B-E056-4671-A5F5-28FDBA986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763E-6B15-4FE6-A80B-8C54B79AB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D21D-722F-45A7-B080-83475C568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5A24-21C6-4A7B-98FE-61A8642CD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65A1-4861-4429-8480-775525CE4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849E-0EFE-4661-8727-A7AFF95F8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F85E-6D17-4D55-8205-4EB982622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B028-4DE8-4805-8DDC-8F174D339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35CF-461C-4038-A8AB-935A47AC6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B4AF-3B9F-4B5E-BE8D-73BC06F1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8729-FFE5-4610-860A-60AFE5CD6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707F-2F97-4D93-99F2-9BD3CDB3D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8F1F5F-C55D-4E16-BFA5-183AD71592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086600" y="1600200"/>
            <a:ext cx="2720880" cy="2271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30120" y="1184400"/>
            <a:ext cx="2184480" cy="2701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886200" y="1481040"/>
            <a:ext cx="2176560" cy="21765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652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ith a little hel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rom the rain.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14600" y="228600"/>
            <a:ext cx="480060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ssoming Bu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: Jocelyn Mallo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3886200"/>
            <a:ext cx="3429000" cy="1828800"/>
          </a:xfrm>
          <a:prstGeom prst="roundRect">
            <a:avLst>
              <a:gd name="adj" fmla="val 83"/>
            </a:avLst>
          </a:prstGeom>
          <a:solidFill>
            <a:srgbClr val="808000"/>
          </a:solidFill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652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seeds represent th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eginning of the flower's journe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d also the beginning of this lesson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teacher will share a read a loud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Tiny Seed, and the students will discus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ir journey as little seeds in schoo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d also the little seed's journey in this book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0400" y="5486400"/>
            <a:ext cx="2971800" cy="1828800"/>
          </a:xfrm>
          <a:prstGeom prst="roundRect">
            <a:avLst>
              <a:gd name="adj" fmla="val 83"/>
            </a:avLst>
          </a:prstGeom>
          <a:solidFill>
            <a:srgbClr val="808000"/>
          </a:solidFill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652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students will nurture the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eds by reflecting on this little seed'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journey with each other and the teacher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students will then create tw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llustrations to represent th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ed and the flower through the process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72200" y="4114800"/>
            <a:ext cx="3657600" cy="2514600"/>
          </a:xfrm>
          <a:prstGeom prst="roundRect">
            <a:avLst>
              <a:gd name="adj" fmla="val 60"/>
            </a:avLst>
          </a:prstGeom>
          <a:solidFill>
            <a:srgbClr val="808000"/>
          </a:solidFill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652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final part of the lesson will ask the student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o work with a teacher and scan their images 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school computer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is will expose them and get the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cited about the capabilities of technology.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teachers will create a Power poi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sentation of the students' wor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o share with the parent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0" y="2743200"/>
            <a:ext cx="1600200" cy="1440"/>
          </a:xfrm>
          <a:prstGeom prst="line">
            <a:avLst/>
          </a:prstGeom>
          <a:ln w="936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15000" y="2514600"/>
            <a:ext cx="1600200" cy="1440"/>
          </a:xfrm>
          <a:prstGeom prst="line">
            <a:avLst/>
          </a:prstGeom>
          <a:ln w="936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2T20:22:06Z</dcterms:created>
  <dc:creator>Jocelyn  Malloy</dc:creator>
  <dc:description/>
  <dc:language>en-US</dc:language>
  <cp:lastModifiedBy/>
  <cp:revision>1</cp:revision>
  <dc:subject/>
  <dc:title/>
</cp:coreProperties>
</file>