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0E4-7D5E-4851-8160-1EBDB8AE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13C-7641-477F-966D-429C99D5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C665-0650-468D-BD34-DDC25308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066-67D2-4B2C-9451-C0EBDC07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DC1E-2CFF-4AB6-B83D-B56C9BFD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933-EBEF-4916-930A-79516B64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B683-5C95-4542-A741-53AF0422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9DF-AA06-4FE5-94CE-8E9AB105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C89-F151-4869-BBAD-D6A46671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208C-778E-45C9-BEAE-D937047F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597-7EC6-4EC2-BC2B-98170F76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51B4-CB59-4B8C-ADE7-7B21D0FA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5CFF6-B700-4C8F-BDBC-5F1F47448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2720880" cy="2271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0120" y="1184400"/>
            <a:ext cx="2184480" cy="2701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86200" y="1481040"/>
            <a:ext cx="2176560" cy="21765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th a little hel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m the rain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228600"/>
            <a:ext cx="48006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ssoming Bu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: Jocelyn Mallo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886200"/>
            <a:ext cx="3429000" cy="1828800"/>
          </a:xfrm>
          <a:prstGeom prst="roundRect">
            <a:avLst>
              <a:gd name="adj" fmla="val 83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eeds represent 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ginning of the flower's journe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lso the beginning of this less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eacher will share a read a loud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iny Seed, and the students will discu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ir journey as little seeds in scho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also the little seed's journey in this book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5486400"/>
            <a:ext cx="2971800" cy="1828800"/>
          </a:xfrm>
          <a:prstGeom prst="roundRect">
            <a:avLst>
              <a:gd name="adj" fmla="val 83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nurture the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eds by reflecting on this little seed'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urney with each other and the teacher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tudents will then create tw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llustrations to represent th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ed and the flower through the proces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4114800"/>
            <a:ext cx="3657600" cy="2514600"/>
          </a:xfrm>
          <a:prstGeom prst="roundRect">
            <a:avLst>
              <a:gd name="adj" fmla="val 60"/>
            </a:avLst>
          </a:prstGeom>
          <a:solidFill>
            <a:srgbClr val="808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final part of the lesson will ask the studen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work with a teacher and scan their images 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school computer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s will expose them and get th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cited about the capabilities of technology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teachers will create a Power poi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sentation of the students'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share with the parent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2743200"/>
            <a:ext cx="1600200" cy="144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2514600"/>
            <a:ext cx="1600200" cy="1440"/>
          </a:xfrm>
          <a:prstGeom prst="line">
            <a:avLst/>
          </a:prstGeom>
          <a:ln w="93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0:22:06Z</dcterms:created>
  <dc:creator>Jocelyn  Malloy</dc:creator>
  <dc:description/>
  <dc:language>en-US</dc:language>
  <cp:lastModifiedBy/>
  <cp:revision>1</cp:revision>
  <dc:subject/>
  <dc:title/>
</cp:coreProperties>
</file>