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AA9-B380-49A8-8F25-3731AB26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E0B-9D41-4BDB-853B-501BAD3E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A6E-BB51-446C-8790-63FEF381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16CF-137C-448F-9253-24FDC1ED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255-0640-47E6-88CD-76E87056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75C-3D09-4820-983C-A3A390DA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E34-AACD-44E8-89FA-23B84B9C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96BB-5248-488F-A361-E9C9152C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A55-C416-4184-A87C-9D9AD212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032-5142-4DD3-8DF0-26FD498A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9E0-7CD8-4B3E-8C6F-6D43CFD7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21B-4652-471B-ACAB-82B4C6CC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CE9F8-411C-4918-901B-FE5D812E2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2720880" cy="2271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0120" y="1184400"/>
            <a:ext cx="2184480" cy="2701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86200" y="1481040"/>
            <a:ext cx="2176560" cy="2176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a little hel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om the rain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228600"/>
            <a:ext cx="48006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ssoming Bu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Jocelyn Mallo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886200"/>
            <a:ext cx="3429000" cy="1828800"/>
          </a:xfrm>
          <a:prstGeom prst="roundRect">
            <a:avLst>
              <a:gd name="adj" fmla="val 83"/>
            </a:avLst>
          </a:prstGeom>
          <a:solidFill>
            <a:srgbClr val="8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eeds represent 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eginning of the flower's journ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also the beginning of this less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teacher will share a read a loud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Tiny Seed, and the students will discu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ir journey as little seeds in scho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also the little seed's journey in this book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5486400"/>
            <a:ext cx="2971800" cy="1828800"/>
          </a:xfrm>
          <a:prstGeom prst="roundRect">
            <a:avLst>
              <a:gd name="adj" fmla="val 83"/>
            </a:avLst>
          </a:prstGeom>
          <a:solidFill>
            <a:srgbClr val="8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nurture the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eds by reflecting on this little seed'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urney with each other and the teacher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then create tw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llustrations to represent 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ed and the flower through the proces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4114800"/>
            <a:ext cx="3657600" cy="2514600"/>
          </a:xfrm>
          <a:prstGeom prst="roundRect">
            <a:avLst>
              <a:gd name="adj" fmla="val 60"/>
            </a:avLst>
          </a:prstGeom>
          <a:solidFill>
            <a:srgbClr val="8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final part of the lesson will ask the studen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work with a teacher and scan their images 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chool computer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s will expose them and get th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ited about the capabilities of technology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teachers will create a Power 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sentation of the students'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share with the parent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2743200"/>
            <a:ext cx="1600200" cy="144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2514600"/>
            <a:ext cx="1600200" cy="144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0:22:06Z</dcterms:created>
  <dc:creator>Jocelyn  Malloy</dc:creator>
  <dc:description/>
  <dc:language>en-US</dc:language>
  <cp:lastModifiedBy/>
  <cp:revision>1</cp:revision>
  <dc:subject/>
  <dc:title/>
</cp:coreProperties>
</file>