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4A6-8224-46BC-8BE8-09AB4301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FBA-4E1F-4B47-B6C6-A5FC3D61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CCD-536A-4C5F-9AFA-E6CA2696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52E-63AF-4533-863E-AF948BF2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6F01-B2A3-4F8B-B7E7-6F06C7D3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AD55-7B05-4082-8D76-2099B923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72DF-5610-42AD-AFE3-BA4C31CB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94F4-9066-47E0-BD89-3565444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2A2E-EC22-4120-988E-3A92EE77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48F6-A902-466E-88DA-BFCC5015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BD66-625C-4D1B-B629-B96C28B7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9C1-ECE0-4D10-891C-77923210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787E-E2AC-488D-8667-82ECBD6D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5FAC-65E4-4FD3-BDFC-31259E0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1FF-ECA3-4CF6-97E4-7D266DC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606D-E459-4CE2-A605-194C71D2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5ED-A397-480C-8692-7DE2EFCE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12AA-0FF5-4A61-92B6-9E3E5E15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E60-829A-4B80-9AAC-6A9C05AD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549-7C5C-4809-B31F-61C3A77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D9A-68C3-4F66-B4F6-98EDDB17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E69-0FED-4F5D-996E-950B493D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F52-1004-417A-899C-F2D4283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997-9DB2-49B3-83B5-97B1D8C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44DA-FC3B-455B-9955-297A9D50C7A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D04-3F93-45A0-90EF-B45FA4DEFF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c1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35268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Kindergarten -2</a:t>
            </a:r>
            <a:r>
              <a:rPr b="1" lang="en-US" sz="1800" spc="-1" strike="noStrike" baseline="30000">
                <a:solidFill>
                  <a:srgbClr val="481019"/>
                </a:solidFill>
                <a:latin typeface="Verdana"/>
              </a:rPr>
              <a:t>nd</a:t>
            </a: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8600" y="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" y="457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tructu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earning new th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 activit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Ho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685800"/>
            <a:ext cx="20574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arental val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involv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chool conn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In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amily marital st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010280" y="228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762120"/>
            <a:ext cx="27432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sources of foo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tami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Food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28954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halle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09880" y="4876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Fun-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5181480"/>
            <a:ext cx="2209680" cy="18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Activities in h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puters at home &amp; scho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Outdoor pl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733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4114800"/>
            <a:ext cx="18288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Video g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Em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ell ph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213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1019"/>
                </a:solidFill>
                <a:latin typeface="Verdana"/>
              </a:rPr>
              <a:t>Cul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2057400"/>
            <a:ext cx="1981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ommun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characteri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304920"/>
            <a:ext cx="1828800" cy="25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81680" y="0"/>
            <a:ext cx="2133720" cy="251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2895480"/>
            <a:ext cx="289548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800600"/>
            <a:ext cx="327672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733920"/>
            <a:ext cx="2971800" cy="160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981080"/>
            <a:ext cx="2971800" cy="167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362320" cy="1905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52680" y="3276720"/>
            <a:ext cx="198144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419720" y="28951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334120" y="2133360"/>
            <a:ext cx="144756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380988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2971800" y="3047760"/>
            <a:ext cx="38088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971800" y="3886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2361960" y="914400"/>
            <a:ext cx="11430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3429000"/>
            <a:ext cx="2666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Physic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en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Monet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1019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1019"/>
                </a:solidFill>
                <a:latin typeface="Arial Rounded MT Bold"/>
              </a:rPr>
              <a:t>langu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495680" y="41144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3:57:06Z</dcterms:created>
  <dc:creator>administrator</dc:creator>
  <dc:description/>
  <dc:language>en-US</dc:language>
  <cp:lastModifiedBy>KATHLEEN</cp:lastModifiedBy>
  <dcterms:modified xsi:type="dcterms:W3CDTF">2010-02-09T05:04:01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