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98D9-116C-4DE3-B7D1-A8EBA197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BA4-10E9-4C77-8D38-2ED948B1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57D-EFB6-4816-A95D-19DD4E91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E7D-544B-42E9-AAAA-C4B3F4D3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906E-C3B8-4E26-BBF2-BBC02D3D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1CAE-7279-4727-B638-CDBAD825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096E-3308-414C-A8DC-C5438032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293D-5D72-440B-9018-173E7185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0581-C49E-483B-93FA-558E3B59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012C-886F-41BC-A2D0-59B7AC42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C402-91E5-4926-9F74-4DEFA0CC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782-68F0-4519-B2E8-ED67966E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9E20-9811-4826-87C8-52957A32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8079-00D0-412D-9A3C-B30E8926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CD1A-D4BF-4A17-921E-BFB33695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C9AD-809F-4CDE-A937-F4DD22AD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E4D2-F122-4E98-A57C-07978400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E97-B285-465E-848B-F63C69BB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A4B-19A0-4162-B4DD-A91C6625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5D0-FDC3-4E1D-8A6E-8BA92C3F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690-FC0B-4794-9C89-21A57D04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FE0-39C6-4E63-B212-A7CDFB95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4E7-D9E2-4B5B-AAF2-9E7E994F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4BE-0391-463E-A8E6-6B75C79E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9FF2-8A58-46E3-BA6D-7C7F3311AD1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D9A7-A8ED-436C-A0CA-B9B71806DFE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3c1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35268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Kindergarten -2</a:t>
            </a:r>
            <a:r>
              <a:rPr b="1" lang="en-US" sz="1800" spc="-1" strike="noStrike" baseline="30000">
                <a:solidFill>
                  <a:srgbClr val="481019"/>
                </a:solidFill>
                <a:latin typeface="Verdana"/>
              </a:rPr>
              <a:t>nd</a:t>
            </a: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45720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tructur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earning new th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ocial activi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760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Ho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57600" y="685800"/>
            <a:ext cx="20574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Parental val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amily involv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chool conn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Inc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amily marital stat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10280" y="228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F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81680" y="762120"/>
            <a:ext cx="274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ood sources of foo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vitami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ood 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2895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halle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Fun-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5181480"/>
            <a:ext cx="22096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Activities in h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omputers at home &amp; sch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4114800"/>
            <a:ext cx="18288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Video g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ell ph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ul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2057400"/>
            <a:ext cx="1981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ommun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haracterist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57600" y="304920"/>
            <a:ext cx="1828800" cy="25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81680" y="0"/>
            <a:ext cx="213372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48520" y="2895480"/>
            <a:ext cx="289548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4800600"/>
            <a:ext cx="327672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52680" y="3276720"/>
            <a:ext cx="198144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419720" y="2895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334120" y="2133360"/>
            <a:ext cx="144756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34120" y="3809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971800" y="3886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77120" y="3429000"/>
            <a:ext cx="2666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Physic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M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o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Monet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495680" y="41144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KATHLEEN</cp:lastModifiedBy>
  <dcterms:modified xsi:type="dcterms:W3CDTF">2010-02-09T05:04:01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