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65C925A8-FF8E-49C2-9C6E-E4C8309FD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D2C3DCD0-4892-4FEB-B2F1-8E20F56DD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221-BC5F-474C-9AA3-E620A0C1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E32-9553-4543-98B8-E4889814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D1F-D1E1-40DF-AE2E-CB0C7E40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59D-50D4-42F0-A038-2F93B37A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77F-D45F-4877-851A-015E4B00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609-3C2E-43A7-9BCB-A38DEC5B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FD9-D710-4C57-8CF6-46B9C4EC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45B-7F3D-4053-AC5C-EE36BC4C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7070-5175-4AA4-B7EF-156CAB50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433-625C-487A-B071-FF7358FA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385-9532-45E2-8577-BA2CE689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74B-8390-49DC-B4C8-7AC85E1C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0EFE-0B0C-4478-BE04-759FD3B13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d3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67"/>
          <p:cNvSpPr/>
          <p:nvPr/>
        </p:nvSpPr>
        <p:spPr>
          <a:xfrm>
            <a:off x="3490920" y="1376280"/>
            <a:ext cx="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7"/>
          <p:cNvSpPr/>
          <p:nvPr/>
        </p:nvSpPr>
        <p:spPr>
          <a:xfrm>
            <a:off x="6019920" y="4800600"/>
            <a:ext cx="2895480" cy="182880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ex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x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9"/>
          <p:cNvSpPr/>
          <p:nvPr/>
        </p:nvSpPr>
        <p:spPr>
          <a:xfrm>
            <a:off x="0" y="2743200"/>
            <a:ext cx="1905120" cy="281952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2819520"/>
              <a:gd name="textAreaBottom" fmla="*/ 2726640 h 2819520"/>
            </a:gdLst>
            <a:ahLst/>
            <a:rect l="textAreaLeft" t="textAreaTop" r="textAreaRight" b="textAreaBottom"/>
            <a:pathLst>
              <a:path w="21600" h="31965">
                <a:moveTo>
                  <a:pt x="3600" y="0"/>
                </a:moveTo>
                <a:arcTo wR="3600" hR="3600" stAng="16200000" swAng="-5400000"/>
                <a:lnTo>
                  <a:pt x="0" y="28365"/>
                </a:lnTo>
                <a:arcTo wR="3600" hR="3600" stAng="10800000" swAng="-5400000"/>
                <a:lnTo>
                  <a:pt x="18000" y="31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Junk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n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 real balanced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cDona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2"/>
          <p:cNvSpPr/>
          <p:nvPr/>
        </p:nvSpPr>
        <p:spPr>
          <a:xfrm>
            <a:off x="1523880" y="4495680"/>
            <a:ext cx="4496040" cy="221004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pathetic to the world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ey know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on’t like school 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ant things handed to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itled to anything and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ers opinions are all that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ve to have the latest and greatest or not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ey are indestruct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3"/>
          <p:cNvSpPr/>
          <p:nvPr/>
        </p:nvSpPr>
        <p:spPr>
          <a:xfrm>
            <a:off x="3124080" y="990720"/>
            <a:ext cx="3048120" cy="144756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ome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lone with siblings and/or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 re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ttle parent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Kids do what they w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4"/>
          <p:cNvSpPr/>
          <p:nvPr/>
        </p:nvSpPr>
        <p:spPr>
          <a:xfrm>
            <a:off x="2362320" y="2895480"/>
            <a:ext cx="3429000" cy="106704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oday’s K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6"/>
          <p:cNvSpPr/>
          <p:nvPr/>
        </p:nvSpPr>
        <p:spPr>
          <a:xfrm>
            <a:off x="6172200" y="2819520"/>
            <a:ext cx="2743200" cy="144756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choo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ve to be pop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ports cool, band not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ve to dress a certai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st show a distain for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8"/>
          <p:cNvSpPr/>
          <p:nvPr/>
        </p:nvSpPr>
        <p:spPr>
          <a:xfrm>
            <a:off x="304920" y="106668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ass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ighb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eam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0"/>
          <p:cNvSpPr/>
          <p:nvPr/>
        </p:nvSpPr>
        <p:spPr>
          <a:xfrm>
            <a:off x="6556320" y="990720"/>
            <a:ext cx="2587680" cy="144756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ter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o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6"/>
          <p:cNvSpPr/>
          <p:nvPr/>
        </p:nvSpPr>
        <p:spPr>
          <a:xfrm>
            <a:off x="1676520" y="152280"/>
            <a:ext cx="5867280" cy="68580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racteristics of Today’s K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8" descr="C:\Users\Scrabulous\AppData\Local\Microsoft\Windows\Temporary Internet Files\Content.IE5\2IQSTJ1K\MPj04423090000[1].jpg"/>
          <p:cNvPicPr/>
          <p:nvPr/>
        </p:nvPicPr>
        <p:blipFill>
          <a:blip r:embed="rId1"/>
          <a:stretch/>
        </p:blipFill>
        <p:spPr>
          <a:xfrm>
            <a:off x="6324480" y="5257800"/>
            <a:ext cx="106704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9" descr="C:\Users\Scrabulous\AppData\Local\Microsoft\Windows\Temporary Internet Files\Content.IE5\2IQSTJ1K\MPj04276400000[1].jpg"/>
          <p:cNvPicPr/>
          <p:nvPr/>
        </p:nvPicPr>
        <p:blipFill>
          <a:blip r:embed="rId2"/>
          <a:stretch/>
        </p:blipFill>
        <p:spPr>
          <a:xfrm>
            <a:off x="152280" y="44197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0" descr="C:\Users\Scrabulous\AppData\Local\Microsoft\Windows\Temporary Internet Files\Content.IE5\IX2NY1MD\MPj04422460000[1].jpg"/>
          <p:cNvPicPr/>
          <p:nvPr/>
        </p:nvPicPr>
        <p:blipFill>
          <a:blip r:embed="rId3"/>
          <a:stretch/>
        </p:blipFill>
        <p:spPr>
          <a:xfrm>
            <a:off x="457200" y="14479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5" descr="C:\Users\Scrabulous\AppData\Local\Microsoft\Windows\Temporary Internet Files\Content.IE5\2IQSTJ1K\MPj04000620000[1].jpg"/>
          <p:cNvPicPr/>
          <p:nvPr/>
        </p:nvPicPr>
        <p:blipFill>
          <a:blip r:embed="rId4"/>
          <a:stretch/>
        </p:blipFill>
        <p:spPr>
          <a:xfrm>
            <a:off x="6781680" y="1371600"/>
            <a:ext cx="990720" cy="914400"/>
          </a:xfrm>
          <a:prstGeom prst="rect">
            <a:avLst/>
          </a:prstGeom>
          <a:ln w="0">
            <a:noFill/>
          </a:ln>
        </p:spPr>
      </p:pic>
      <p:cxnSp>
        <p:nvCxnSpPr>
          <p:cNvPr id="63" name="Straight Arrow Connector 64"/>
          <p:cNvCxnSpPr>
            <a:stCxn id="54" idx="1"/>
          </p:cNvCxnSpPr>
          <p:nvPr/>
        </p:nvCxnSpPr>
        <p:spPr>
          <a:xfrm flipH="1" flipV="1">
            <a:off x="1523160" y="3428640"/>
            <a:ext cx="839520" cy="7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66"/>
          <p:cNvCxnSpPr/>
          <p:nvPr/>
        </p:nvCxnSpPr>
        <p:spPr>
          <a:xfrm flipH="1">
            <a:off x="2742840" y="3962520"/>
            <a:ext cx="457920" cy="8388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70"/>
          <p:cNvCxnSpPr/>
          <p:nvPr/>
        </p:nvCxnSpPr>
        <p:spPr>
          <a:xfrm flipH="1" flipV="1">
            <a:off x="2590560" y="2285280"/>
            <a:ext cx="915120" cy="6102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76"/>
          <p:cNvCxnSpPr/>
          <p:nvPr/>
        </p:nvCxnSpPr>
        <p:spPr>
          <a:xfrm flipV="1">
            <a:off x="4114800" y="2208960"/>
            <a:ext cx="1905840" cy="686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80"/>
          <p:cNvCxnSpPr/>
          <p:nvPr/>
        </p:nvCxnSpPr>
        <p:spPr>
          <a:xfrm>
            <a:off x="5486400" y="3962160"/>
            <a:ext cx="991440" cy="99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86"/>
          <p:cNvCxnSpPr/>
          <p:nvPr/>
        </p:nvCxnSpPr>
        <p:spPr>
          <a:xfrm flipV="1">
            <a:off x="5791320" y="2208960"/>
            <a:ext cx="838800" cy="762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88"/>
          <p:cNvCxnSpPr>
            <a:stCxn id="54" idx="3"/>
          </p:cNvCxnSpPr>
          <p:nvPr/>
        </p:nvCxnSpPr>
        <p:spPr>
          <a:xfrm>
            <a:off x="5791320" y="3429000"/>
            <a:ext cx="83880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23:43:19Z</dcterms:created>
  <dc:creator>Scrabulous</dc:creator>
  <dc:description/>
  <dc:language>en-US</dc:language>
  <cp:lastModifiedBy>Scrabulous</cp:lastModifiedBy>
  <dcterms:modified xsi:type="dcterms:W3CDTF">2010-02-09T01:32:36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784161033</vt:lpwstr>
  </property>
</Properties>
</file>