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F46-8EEF-4BCB-B644-69DD15DC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8EE-16BA-40D4-8320-2F634FAB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0F3-A35A-4165-B7DA-917A1C17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8A3-39CD-403A-89A3-C33AF204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FBE-4407-46DA-A269-376D7402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DB41-A4F1-4112-904B-6237860A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431-089A-4426-B6A6-659F41FA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5B3-51FD-46E6-BECE-DFDE1FB1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A27-F0D9-4F1F-AEF2-16F1763E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635-58A5-4844-A6CF-0986510E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C87-A1F5-4BFE-BDAB-579BBCF4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1DD-D77F-4F1D-9289-5FCE69C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F5927-3057-4499-8CA1-28F51B22F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686800" y="4572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38320" y="914400"/>
            <a:ext cx="1162080" cy="923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28800" y="3200400"/>
            <a:ext cx="145080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931240" y="3451320"/>
            <a:ext cx="876240" cy="66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85800"/>
            <a:ext cx="2971800" cy="11430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85800"/>
            <a:ext cx="22860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hey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oration and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ginative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14600"/>
            <a:ext cx="3200400" cy="2743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43200"/>
            <a:ext cx="22860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 in Their L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ve Computer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sure to email, cell phones, and television through adult or older infl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228600"/>
            <a:ext cx="4594320" cy="2743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ir Home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ing Family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-Economic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ltural and Personal Ideologies a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guage Barr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ying Levels of Invol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37520" y="3200400"/>
            <a:ext cx="2743200" cy="13716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-Prov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y Sn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ying Degree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tritional Lun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200400"/>
            <a:ext cx="3200400" cy="13716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d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: 2.5-6 year 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chool/Prekindergar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29200" y="2284560"/>
            <a:ext cx="685800" cy="91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427560" y="1827360"/>
            <a:ext cx="917280" cy="1374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198960" y="3657600"/>
            <a:ext cx="46008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5029200"/>
            <a:ext cx="21016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ir School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on with P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fortable Home-Like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portunity for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iculum Based Instruction to Foster Exploration, Discovery, and Imaginative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58200" y="5943600"/>
            <a:ext cx="1371600" cy="119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65920" y="5029200"/>
            <a:ext cx="4114800" cy="22860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5715000"/>
            <a:ext cx="3759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s/Demea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t Tempera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Individual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anging from inquisitive and energetic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drawn and melancho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” to their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715000"/>
            <a:ext cx="3886200" cy="1600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8960" y="4572000"/>
            <a:ext cx="46008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316320" y="5842080"/>
            <a:ext cx="457200" cy="455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29400" y="4572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38862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4:59:12Z</dcterms:created>
  <dc:creator>Jocelyn  Malloy</dc:creator>
  <dc:description/>
  <dc:language>en-US</dc:language>
  <cp:lastModifiedBy/>
  <cp:revision>1</cp:revision>
  <dc:subject/>
  <dc:title/>
</cp:coreProperties>
</file>