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80BE-8A33-405B-BFCE-A87A0808DE6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6081-2084-4A29-93E4-F0D62EFD3B2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4BD0-9571-4AFF-A9B8-79E1A7F4A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DA26-4CD5-445F-88FE-36528E7B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27DD-8C1C-45C3-9C59-FDD5642BE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DC3F-087B-45E9-8FBF-F08F0C770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FECC-E180-4E22-8E1E-53772C24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A6B9-D0AC-4689-8167-C70F4704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EBA8-C713-4736-99AD-317C90B0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78FE-5C33-49D5-89E9-B2F19ADE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9FDB-584F-46D0-8E9C-4CB4F131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3DA7-C2EB-46C6-8200-5324429C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F110-AD04-49C1-935A-3BDC9546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78C9-68CC-4333-A432-9D93E9BB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A41E-270C-4F8A-A188-C8387615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E7F6-A6ED-4DD4-8999-FC50D615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B194-1631-4150-A35F-257FC5A9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FFC9-52EF-497F-AD21-53740A28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9623-EF32-40D3-9D85-2B3CA9CE9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3ACF-6981-4205-B29B-FE27758C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C872-150E-479E-9819-3D6C769C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DA1E-66E3-4F73-9AB3-C34605E8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1D78-CF0B-4CD0-8D48-B37AA464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85E2-21E6-456E-907B-48D1258B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939D-05A0-426A-A9E5-EBFE6DAB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AA8A-114C-412C-B40F-E2A34B52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3215-81BC-4A09-A491-F13F09A3699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34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4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4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5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59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1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3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4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7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8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6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8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9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5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6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7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8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8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9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5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6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929C-E5DD-4409-8875-E00AB26740F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5"/>
          <p:cNvSpPr/>
          <p:nvPr/>
        </p:nvSpPr>
        <p:spPr>
          <a:xfrm>
            <a:off x="3352680" y="32004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Urban Kids Toda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228600" y="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rien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Text Box 7"/>
          <p:cNvSpPr/>
          <p:nvPr/>
        </p:nvSpPr>
        <p:spPr>
          <a:xfrm>
            <a:off x="304920" y="304920"/>
            <a:ext cx="25146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ullyin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ritica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anting acceptanc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eer pressur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iversit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3657600" y="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Home Lif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3581280" y="380880"/>
            <a:ext cx="205740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mework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mputer tim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ow income welfar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amily tim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arents working 2 job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roken famil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ncrease in single   parent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Text Box 13"/>
          <p:cNvSpPr/>
          <p:nvPr/>
        </p:nvSpPr>
        <p:spPr>
          <a:xfrm>
            <a:off x="6781680" y="1522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oo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Text Box 14"/>
          <p:cNvSpPr/>
          <p:nvPr/>
        </p:nvSpPr>
        <p:spPr>
          <a:xfrm>
            <a:off x="6781680" y="609480"/>
            <a:ext cx="27432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ack of nutritional      knowledg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nvenienc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Text Box 16"/>
          <p:cNvSpPr/>
          <p:nvPr/>
        </p:nvSpPr>
        <p:spPr>
          <a:xfrm>
            <a:off x="5410080" y="28954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ocial economic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Text Box 17"/>
          <p:cNvSpPr/>
          <p:nvPr/>
        </p:nvSpPr>
        <p:spPr>
          <a:xfrm>
            <a:off x="5791320" y="3505320"/>
            <a:ext cx="19047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ack of Educa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Text Box 19"/>
          <p:cNvSpPr/>
          <p:nvPr/>
        </p:nvSpPr>
        <p:spPr>
          <a:xfrm>
            <a:off x="7238880" y="5257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Text Box 20"/>
          <p:cNvSpPr/>
          <p:nvPr/>
        </p:nvSpPr>
        <p:spPr>
          <a:xfrm>
            <a:off x="5410080" y="5181480"/>
            <a:ext cx="2210040" cy="19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Video games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mputer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V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rganized sport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utdoor pla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Text Box 22"/>
          <p:cNvSpPr/>
          <p:nvPr/>
        </p:nvSpPr>
        <p:spPr>
          <a:xfrm>
            <a:off x="3352680" y="55627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cho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Text Box 23"/>
          <p:cNvSpPr/>
          <p:nvPr/>
        </p:nvSpPr>
        <p:spPr>
          <a:xfrm>
            <a:off x="990720" y="5595840"/>
            <a:ext cx="266688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ransporta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ch Dependen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fterschool program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path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Text Box 25"/>
          <p:cNvSpPr/>
          <p:nvPr/>
        </p:nvSpPr>
        <p:spPr>
          <a:xfrm>
            <a:off x="0" y="3733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mmuni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Text Box 26"/>
          <p:cNvSpPr/>
          <p:nvPr/>
        </p:nvSpPr>
        <p:spPr>
          <a:xfrm>
            <a:off x="0" y="4114800"/>
            <a:ext cx="31240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mai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ocial network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Text Box 28"/>
          <p:cNvSpPr/>
          <p:nvPr/>
        </p:nvSpPr>
        <p:spPr>
          <a:xfrm>
            <a:off x="0" y="2133720"/>
            <a:ext cx="205740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mmun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olenc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ck of  Housin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e School Community Connec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Rectangle 31"/>
          <p:cNvSpPr/>
          <p:nvPr/>
        </p:nvSpPr>
        <p:spPr>
          <a:xfrm>
            <a:off x="3352680" y="0"/>
            <a:ext cx="2286000" cy="3124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Rectangle 32"/>
          <p:cNvSpPr/>
          <p:nvPr/>
        </p:nvSpPr>
        <p:spPr>
          <a:xfrm>
            <a:off x="6781680" y="0"/>
            <a:ext cx="1981440" cy="251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Rectangle 33"/>
          <p:cNvSpPr/>
          <p:nvPr/>
        </p:nvSpPr>
        <p:spPr>
          <a:xfrm>
            <a:off x="5867280" y="2895480"/>
            <a:ext cx="2667240" cy="190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Rectangle 34"/>
          <p:cNvSpPr/>
          <p:nvPr/>
        </p:nvSpPr>
        <p:spPr>
          <a:xfrm>
            <a:off x="5410080" y="5181480"/>
            <a:ext cx="3276720" cy="167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Rectangle 35"/>
          <p:cNvSpPr/>
          <p:nvPr/>
        </p:nvSpPr>
        <p:spPr>
          <a:xfrm>
            <a:off x="685800" y="5486400"/>
            <a:ext cx="396252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Rectangle 36"/>
          <p:cNvSpPr/>
          <p:nvPr/>
        </p:nvSpPr>
        <p:spPr>
          <a:xfrm>
            <a:off x="0" y="3733920"/>
            <a:ext cx="2971800" cy="160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Rectangle 37"/>
          <p:cNvSpPr/>
          <p:nvPr/>
        </p:nvSpPr>
        <p:spPr>
          <a:xfrm>
            <a:off x="0" y="1981080"/>
            <a:ext cx="2971800" cy="167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Rectangle 38"/>
          <p:cNvSpPr/>
          <p:nvPr/>
        </p:nvSpPr>
        <p:spPr>
          <a:xfrm>
            <a:off x="0" y="0"/>
            <a:ext cx="2362320" cy="190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Rectangle 40"/>
          <p:cNvSpPr/>
          <p:nvPr/>
        </p:nvSpPr>
        <p:spPr>
          <a:xfrm>
            <a:off x="3429000" y="3276720"/>
            <a:ext cx="1981080" cy="1904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Line 41"/>
          <p:cNvSpPr/>
          <p:nvPr/>
        </p:nvSpPr>
        <p:spPr>
          <a:xfrm flipV="1">
            <a:off x="4419720" y="3124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Line 42"/>
          <p:cNvSpPr/>
          <p:nvPr/>
        </p:nvSpPr>
        <p:spPr>
          <a:xfrm flipV="1">
            <a:off x="5410080" y="2133720"/>
            <a:ext cx="137160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Line 43"/>
          <p:cNvSpPr/>
          <p:nvPr/>
        </p:nvSpPr>
        <p:spPr>
          <a:xfrm>
            <a:off x="5257800" y="41911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Line 44"/>
          <p:cNvSpPr/>
          <p:nvPr/>
        </p:nvSpPr>
        <p:spPr>
          <a:xfrm>
            <a:off x="5334120" y="4876920"/>
            <a:ext cx="30456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Line 45"/>
          <p:cNvSpPr/>
          <p:nvPr/>
        </p:nvSpPr>
        <p:spPr>
          <a:xfrm>
            <a:off x="4267080" y="50292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Line 47"/>
          <p:cNvSpPr/>
          <p:nvPr/>
        </p:nvSpPr>
        <p:spPr>
          <a:xfrm flipH="1" flipV="1">
            <a:off x="2971800" y="3047760"/>
            <a:ext cx="3808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Line 48"/>
          <p:cNvSpPr/>
          <p:nvPr/>
        </p:nvSpPr>
        <p:spPr>
          <a:xfrm flipH="1">
            <a:off x="2895480" y="43434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Line 49"/>
          <p:cNvSpPr/>
          <p:nvPr/>
        </p:nvSpPr>
        <p:spPr>
          <a:xfrm flipH="1" flipV="1">
            <a:off x="2361960" y="914400"/>
            <a:ext cx="1143000" cy="236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5" name="Picture 56" descr="C:\Users\Owner\Pictures\Microsoft Clip Organizer\j0408959.jpg"/>
          <p:cNvPicPr/>
          <p:nvPr/>
        </p:nvPicPr>
        <p:blipFill>
          <a:blip r:embed="rId1"/>
          <a:stretch/>
        </p:blipFill>
        <p:spPr>
          <a:xfrm>
            <a:off x="3429000" y="3809880"/>
            <a:ext cx="19810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3:57:06Z</dcterms:created>
  <dc:creator>administrator</dc:creator>
  <dc:description/>
  <dc:language>en-US</dc:language>
  <cp:lastModifiedBy>Owner</cp:lastModifiedBy>
  <dcterms:modified xsi:type="dcterms:W3CDTF">2010-02-09T05:17:40Z</dcterms:modified>
  <cp:revision>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