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E2B2-6132-4925-93D9-EC47DE77FA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A6E8-B3BD-452E-80E0-3DC5E48EB3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B57-3744-4A42-B044-C6D5F2DD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5BB-690E-4A52-B656-281FB262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FB3-9949-4D3B-987F-E3FD7804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127-4A07-4568-9B32-EBBE3C1E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591E-397B-4DEB-980F-9B08A487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7122-53DF-45DF-852B-49A1D717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584F-8414-4D0B-9017-3A1ADDF2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80A3-E792-4B36-8785-9F471A1C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8732-DE94-4E3F-9996-150FAFD6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BB71-8AF9-4009-9BD8-CC0B18AB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DE6D-C82D-4F4B-ADED-C1CCB931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E60-3DF3-4113-A47E-206CD10A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77B6-A5FD-437C-BEEF-80408E53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BD18-CD82-4439-A050-371A6EE8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5EA8-2BD8-49FA-BBC0-9AB10752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FDAD-4183-408C-BD5A-1C328982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51C6-6EE5-4309-B822-CC6E6102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11C-B5BB-4F34-BCD4-84606345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8E0-B8C5-4C50-B3E8-575C5BEE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208-6E04-4449-929C-68EC9070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385-29C1-4401-AB30-D531737F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CD3-8FDE-4E07-A603-8397500B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C14-6C79-4DB1-BCA0-4B6E1FD5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B74-A3D8-4818-A503-A72DC66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5FE9-B70D-4902-A0D2-4BC6E63ADD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4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0533-5F08-48DF-9A30-50B887333E3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335268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rban Kids To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4920" y="304920"/>
            <a:ext cx="2514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nting accept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er press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380880"/>
            <a:ext cx="20574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w income welf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rents working 2 job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oken famil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crease in single   par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7816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781680" y="60948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791320" y="3505320"/>
            <a:ext cx="1904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Educ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352680" y="5562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90720" y="5595840"/>
            <a:ext cx="2666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school progra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4114800"/>
            <a:ext cx="312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0" y="2133720"/>
            <a:ext cx="2057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 Hou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School Community Conn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5867280" y="2895480"/>
            <a:ext cx="266724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35"/>
          <p:cNvSpPr/>
          <p:nvPr/>
        </p:nvSpPr>
        <p:spPr>
          <a:xfrm>
            <a:off x="685800" y="5486400"/>
            <a:ext cx="3962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36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3429000" y="3276720"/>
            <a:ext cx="198108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5257800" y="4191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44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47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48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49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6" descr="C:\Users\Owner\Pictures\Microsoft Clip Organizer\j0408959.jpg"/>
          <p:cNvPicPr/>
          <p:nvPr/>
        </p:nvPicPr>
        <p:blipFill>
          <a:blip r:embed="rId1"/>
          <a:stretch/>
        </p:blipFill>
        <p:spPr>
          <a:xfrm>
            <a:off x="3429000" y="38098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Owner</cp:lastModifiedBy>
  <dcterms:modified xsi:type="dcterms:W3CDTF">2010-02-09T05:17:40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