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3B4-2035-42F1-AC01-78DE5FC0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29CB-EDA7-448C-B4C6-4005F278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17D4-9F60-4F83-83B2-E6206F60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2EC-1ACD-4E4D-8108-D5477017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7F38-9100-4FE0-9D93-EAF2818A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8576-43F6-491A-8BDE-2DCA5A5C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6C19-4B68-4232-B8C6-322E1979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A7D2-F488-4C63-818C-E346A750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3250-DE57-494C-BAAB-6424584C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828E-E78B-4F5D-B009-F3DA9B10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C7BD-2E6F-4CD6-B1F5-D8C5ED35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8DD-BCCA-4FB0-8763-F376F1AD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DE6D-6CC7-4725-B193-05A813BA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A67F-4CEB-4794-A813-EA052206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A56B-B615-4F4D-9681-D18E291B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C305-2057-4C4F-B491-66AC50F9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BAF1-854C-4789-983F-8E4D901F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408-9EC9-4AA8-A8C3-95AA126C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822-EAC7-4DB0-AC46-36315290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1C3-EE33-4330-B06E-70860C2B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1BF-8413-41DE-80E4-38D93A6A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149-008B-40A8-8B4E-5C114BA8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965-6607-4E37-A2AB-EA048522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E68-FF6E-4DFF-B5A6-B9F2BD22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1149-5B5B-441D-BF71-D723E3CFEF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C0F6-5DA4-4A9F-8270-DC1D4E6150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5"/>
          <p:cNvSpPr/>
          <p:nvPr/>
        </p:nvSpPr>
        <p:spPr>
          <a:xfrm>
            <a:off x="3352680" y="342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Y STUD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cial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304920" y="99072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ery sociabl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nly a few close friend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ery judgement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3733920" y="1828800"/>
            <a:ext cx="20574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or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nn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levis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7086600" y="380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utr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6781680" y="1828800"/>
            <a:ext cx="190512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ealthy lifestyl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ats mostly healthy food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731520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ffo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5943600" y="4343400"/>
            <a:ext cx="13716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vera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oom for improve-m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as potenti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3352680" y="6553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990720" y="559584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ologically advance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esn’t take seriousl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ass Clow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0" y="31240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hys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cti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Rectangle 31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Rectangle 32"/>
          <p:cNvSpPr/>
          <p:nvPr/>
        </p:nvSpPr>
        <p:spPr>
          <a:xfrm>
            <a:off x="6781680" y="38088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Rectangle 33"/>
          <p:cNvSpPr/>
          <p:nvPr/>
        </p:nvSpPr>
        <p:spPr>
          <a:xfrm>
            <a:off x="5943600" y="3886200"/>
            <a:ext cx="3200400" cy="236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Rectangle 35"/>
          <p:cNvSpPr/>
          <p:nvPr/>
        </p:nvSpPr>
        <p:spPr>
          <a:xfrm>
            <a:off x="990720" y="5486400"/>
            <a:ext cx="396216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37"/>
          <p:cNvSpPr/>
          <p:nvPr/>
        </p:nvSpPr>
        <p:spPr>
          <a:xfrm>
            <a:off x="0" y="3048120"/>
            <a:ext cx="2971800" cy="1676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Rectangle 38"/>
          <p:cNvSpPr/>
          <p:nvPr/>
        </p:nvSpPr>
        <p:spPr>
          <a:xfrm>
            <a:off x="0" y="0"/>
            <a:ext cx="266688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40"/>
          <p:cNvSpPr/>
          <p:nvPr/>
        </p:nvSpPr>
        <p:spPr>
          <a:xfrm>
            <a:off x="3352680" y="3276720"/>
            <a:ext cx="198144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Line 41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Line 42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Line 43"/>
          <p:cNvSpPr/>
          <p:nvPr/>
        </p:nvSpPr>
        <p:spPr>
          <a:xfrm>
            <a:off x="5334120" y="419112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45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Line 47"/>
          <p:cNvSpPr/>
          <p:nvPr/>
        </p:nvSpPr>
        <p:spPr>
          <a:xfrm flipH="1" flipV="1">
            <a:off x="3048120" y="3581280"/>
            <a:ext cx="3045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49"/>
          <p:cNvSpPr/>
          <p:nvPr/>
        </p:nvSpPr>
        <p:spPr>
          <a:xfrm flipH="1" flipV="1">
            <a:off x="2666520" y="1218960"/>
            <a:ext cx="83844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51" descr="C:\Users\Becky\AppData\Local\Microsoft\Windows\Temporary Internet Files\Content.IE5\RGF727YC\MPj04422000000[1].jpg"/>
          <p:cNvPicPr/>
          <p:nvPr/>
        </p:nvPicPr>
        <p:blipFill>
          <a:blip r:embed="rId1"/>
          <a:stretch/>
        </p:blipFill>
        <p:spPr>
          <a:xfrm>
            <a:off x="3657600" y="390600"/>
            <a:ext cx="1676520" cy="1133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Users\Becky\AppData\Local\Microsoft\Windows\Temporary Internet Files\Content.IE5\ZS39ZASA\MPj04424270000[1].jpg"/>
          <p:cNvPicPr/>
          <p:nvPr/>
        </p:nvPicPr>
        <p:blipFill>
          <a:blip r:embed="rId2"/>
          <a:stretch/>
        </p:blipFill>
        <p:spPr>
          <a:xfrm>
            <a:off x="380880" y="380880"/>
            <a:ext cx="1447920" cy="665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Users\Becky\AppData\Local\Microsoft\Windows\Temporary Internet Files\Content.IE5\T7S85665\MPj04393190000[1].jpg"/>
          <p:cNvPicPr/>
          <p:nvPr/>
        </p:nvPicPr>
        <p:blipFill>
          <a:blip r:embed="rId3"/>
          <a:stretch/>
        </p:blipFill>
        <p:spPr>
          <a:xfrm>
            <a:off x="3505320" y="3733920"/>
            <a:ext cx="1676160" cy="1218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Users\Becky\AppData\Local\Microsoft\Windows\Temporary Internet Files\Content.IE5\EC9LU53N\MPj04424590000[1].jpg"/>
          <p:cNvPicPr/>
          <p:nvPr/>
        </p:nvPicPr>
        <p:blipFill>
          <a:blip r:embed="rId4"/>
          <a:stretch/>
        </p:blipFill>
        <p:spPr>
          <a:xfrm>
            <a:off x="7086600" y="42670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C:\Users\Becky\AppData\Local\Microsoft\Windows\Temporary Internet Files\Content.IE5\UI1V8P2P\MPj04387180000[1].jpg"/>
          <p:cNvPicPr/>
          <p:nvPr/>
        </p:nvPicPr>
        <p:blipFill>
          <a:blip r:embed="rId5"/>
          <a:stretch/>
        </p:blipFill>
        <p:spPr>
          <a:xfrm>
            <a:off x="6858000" y="838080"/>
            <a:ext cx="1828800" cy="990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C:\Users\Becky\AppData\Local\Microsoft\Windows\Temporary Internet Files\Content.IE5\EC9LU53N\MPj04436200000[1].jpg"/>
          <p:cNvPicPr/>
          <p:nvPr/>
        </p:nvPicPr>
        <p:blipFill>
          <a:blip r:embed="rId6"/>
          <a:stretch/>
        </p:blipFill>
        <p:spPr>
          <a:xfrm>
            <a:off x="1447920" y="31240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54"/>
          <p:cNvSpPr/>
          <p:nvPr/>
        </p:nvSpPr>
        <p:spPr>
          <a:xfrm>
            <a:off x="0" y="40384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y Athleti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y Acti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9" descr="C:\Users\Becky\AppData\Local\Microsoft\Windows\Temporary Internet Files\Content.IE5\PMRVGXY2\MPj04387530000[1].jpg"/>
          <p:cNvPicPr/>
          <p:nvPr/>
        </p:nvPicPr>
        <p:blipFill>
          <a:blip r:embed="rId7"/>
          <a:stretch/>
        </p:blipFill>
        <p:spPr>
          <a:xfrm>
            <a:off x="3429000" y="5562720"/>
            <a:ext cx="1295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Rebecca Morin</cp:lastModifiedBy>
  <dcterms:modified xsi:type="dcterms:W3CDTF">2010-02-15T22:10:44Z</dcterms:modified>
  <cp:revision>1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