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A4A-CF9B-48EF-A0DA-42DFF07B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747-A0B2-4A4B-B419-EC642F60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866-F471-490D-8152-96239F94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2E4-7E16-473E-B251-87C5282C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2057-C9D6-4CB2-9F37-64F6DF66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A6EA-806A-4F76-AE66-3725294C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50CC-30A8-4AE9-9D70-D99F9B76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DE20-478D-4D5C-BFDA-3AFC3FFE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6776-B407-42A5-9EF2-43C46758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7870-299C-44CC-A1C9-CF7E52C0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7FAB-605E-44E0-B25D-2396BA08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C68-0324-4EA9-800A-CAE6A83B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10A3-A933-4A7D-817B-C88AC3AE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5DEB-CF0D-4856-A387-80BCF017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266A-E92B-4888-B67B-37C7F19F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7DDC-F98A-47D4-BC35-E0A69C1A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74FA-1FFD-47A2-B72E-A37C7862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664-3D76-4ACF-8069-6CA163F0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510-F88A-4A73-A7AA-4CB7B1BC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C23-F4F3-436A-9DF8-4A96F1E3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FB17-EC01-4917-B426-69A08AAA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FC0-D64F-4123-8273-7C71ABF6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E55-4278-41A1-9072-90891052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A7D-7A56-49C7-85A4-E3589206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6F4F-2983-42BA-A6C3-050754C27C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3D5C-51D9-401E-8BD3-2334C5978B1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5"/>
          <p:cNvSpPr/>
          <p:nvPr/>
        </p:nvSpPr>
        <p:spPr>
          <a:xfrm>
            <a:off x="3352680" y="342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Y STUD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cial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304920" y="99072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ery sociabl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nly a few close friend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ery judgement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3733920" y="1828800"/>
            <a:ext cx="20574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or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nn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levis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7086600" y="380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utr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6781680" y="1828800"/>
            <a:ext cx="190512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ealthy lifestyl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ats mostly healthy food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731520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ffo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5943600" y="4343400"/>
            <a:ext cx="13716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vera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oom for improve-m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as potenti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3352680" y="6553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990720" y="559584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ologically advance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esn’t take seriousl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ass Clow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0" y="31240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hys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cti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Rectangle 31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Rectangle 32"/>
          <p:cNvSpPr/>
          <p:nvPr/>
        </p:nvSpPr>
        <p:spPr>
          <a:xfrm>
            <a:off x="6781680" y="38088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Rectangle 33"/>
          <p:cNvSpPr/>
          <p:nvPr/>
        </p:nvSpPr>
        <p:spPr>
          <a:xfrm>
            <a:off x="5943600" y="3886200"/>
            <a:ext cx="3200400" cy="236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Rectangle 35"/>
          <p:cNvSpPr/>
          <p:nvPr/>
        </p:nvSpPr>
        <p:spPr>
          <a:xfrm>
            <a:off x="990720" y="5486400"/>
            <a:ext cx="396216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37"/>
          <p:cNvSpPr/>
          <p:nvPr/>
        </p:nvSpPr>
        <p:spPr>
          <a:xfrm>
            <a:off x="0" y="3048120"/>
            <a:ext cx="2971800" cy="1676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Rectangle 38"/>
          <p:cNvSpPr/>
          <p:nvPr/>
        </p:nvSpPr>
        <p:spPr>
          <a:xfrm>
            <a:off x="0" y="0"/>
            <a:ext cx="266688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40"/>
          <p:cNvSpPr/>
          <p:nvPr/>
        </p:nvSpPr>
        <p:spPr>
          <a:xfrm>
            <a:off x="3352680" y="3276720"/>
            <a:ext cx="198144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Line 41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Line 42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Line 43"/>
          <p:cNvSpPr/>
          <p:nvPr/>
        </p:nvSpPr>
        <p:spPr>
          <a:xfrm>
            <a:off x="5334120" y="419112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45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Line 47"/>
          <p:cNvSpPr/>
          <p:nvPr/>
        </p:nvSpPr>
        <p:spPr>
          <a:xfrm flipH="1" flipV="1">
            <a:off x="3048120" y="3581280"/>
            <a:ext cx="3045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49"/>
          <p:cNvSpPr/>
          <p:nvPr/>
        </p:nvSpPr>
        <p:spPr>
          <a:xfrm flipH="1" flipV="1">
            <a:off x="2666520" y="1218960"/>
            <a:ext cx="83844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51" descr="C:\Users\Becky\AppData\Local\Microsoft\Windows\Temporary Internet Files\Content.IE5\RGF727YC\MPj04422000000[1].jpg"/>
          <p:cNvPicPr/>
          <p:nvPr/>
        </p:nvPicPr>
        <p:blipFill>
          <a:blip r:embed="rId1"/>
          <a:stretch/>
        </p:blipFill>
        <p:spPr>
          <a:xfrm>
            <a:off x="3657600" y="390600"/>
            <a:ext cx="1676520" cy="1133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Users\Becky\AppData\Local\Microsoft\Windows\Temporary Internet Files\Content.IE5\ZS39ZASA\MPj04424270000[1].jpg"/>
          <p:cNvPicPr/>
          <p:nvPr/>
        </p:nvPicPr>
        <p:blipFill>
          <a:blip r:embed="rId2"/>
          <a:stretch/>
        </p:blipFill>
        <p:spPr>
          <a:xfrm>
            <a:off x="380880" y="380880"/>
            <a:ext cx="1447920" cy="665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Users\Becky\AppData\Local\Microsoft\Windows\Temporary Internet Files\Content.IE5\T7S85665\MPj04393190000[1].jpg"/>
          <p:cNvPicPr/>
          <p:nvPr/>
        </p:nvPicPr>
        <p:blipFill>
          <a:blip r:embed="rId3"/>
          <a:stretch/>
        </p:blipFill>
        <p:spPr>
          <a:xfrm>
            <a:off x="3505320" y="3733920"/>
            <a:ext cx="1676160" cy="1218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Users\Becky\AppData\Local\Microsoft\Windows\Temporary Internet Files\Content.IE5\EC9LU53N\MPj04424590000[1].jpg"/>
          <p:cNvPicPr/>
          <p:nvPr/>
        </p:nvPicPr>
        <p:blipFill>
          <a:blip r:embed="rId4"/>
          <a:stretch/>
        </p:blipFill>
        <p:spPr>
          <a:xfrm>
            <a:off x="7086600" y="42670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C:\Users\Becky\AppData\Local\Microsoft\Windows\Temporary Internet Files\Content.IE5\UI1V8P2P\MPj04387180000[1].jpg"/>
          <p:cNvPicPr/>
          <p:nvPr/>
        </p:nvPicPr>
        <p:blipFill>
          <a:blip r:embed="rId5"/>
          <a:stretch/>
        </p:blipFill>
        <p:spPr>
          <a:xfrm>
            <a:off x="6858000" y="838080"/>
            <a:ext cx="1828800" cy="990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C:\Users\Becky\AppData\Local\Microsoft\Windows\Temporary Internet Files\Content.IE5\EC9LU53N\MPj04436200000[1].jpg"/>
          <p:cNvPicPr/>
          <p:nvPr/>
        </p:nvPicPr>
        <p:blipFill>
          <a:blip r:embed="rId6"/>
          <a:stretch/>
        </p:blipFill>
        <p:spPr>
          <a:xfrm>
            <a:off x="1447920" y="31240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54"/>
          <p:cNvSpPr/>
          <p:nvPr/>
        </p:nvSpPr>
        <p:spPr>
          <a:xfrm>
            <a:off x="0" y="40384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y Athleti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y Acti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9" descr="C:\Users\Becky\AppData\Local\Microsoft\Windows\Temporary Internet Files\Content.IE5\PMRVGXY2\MPj04387530000[1].jpg"/>
          <p:cNvPicPr/>
          <p:nvPr/>
        </p:nvPicPr>
        <p:blipFill>
          <a:blip r:embed="rId7"/>
          <a:stretch/>
        </p:blipFill>
        <p:spPr>
          <a:xfrm>
            <a:off x="3429000" y="5562720"/>
            <a:ext cx="1295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Rebecca Morin</cp:lastModifiedBy>
  <dcterms:modified xsi:type="dcterms:W3CDTF">2010-02-15T22:10:44Z</dcterms:modified>
  <cp:revision>1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