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67A-62CC-4B30-AC68-A36B2605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21B-4CC5-41F4-8B9A-B59E0835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FFE-686E-4E59-A8CC-6874AD91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77A-BBF1-45D8-BCA2-8F7A75E7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62AC-EA62-4F8B-AF46-D335A120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01BB-BEEB-448F-8E67-0DC02D0C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C218-652C-4881-87AF-0DD2BB76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CAF5-DA10-4E0B-8C9C-124ADD77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CC32-209B-4E01-9AE5-D9C093F9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BCBD-EE8A-4505-B547-9E9D2149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4037-4FA5-44E6-9C96-8BA251A9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490-DB57-4139-BB2C-5CB23D80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7FFF-3849-47F8-A4DA-604831E5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5A07-12FA-43A9-AD05-CB2AAC2B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5C81-CE48-460F-9BA0-2B4D6062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AFE0-9175-448E-B07A-4342A630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82EB-9786-4ABD-9CB1-00781165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710-C3AF-47C6-B50D-FB8AB4D5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A021-9276-4A47-AD13-01BEEE4E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0FC7-CBA9-44D8-8932-3F4A6BD7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3FB5-8432-4D8C-BDAE-09334958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AAA-097C-48C7-8D39-F5B1B742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436-0A35-4314-8360-228C4B65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D38-3812-4C74-9E24-9EE7D10B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6176-C61E-4A91-BD71-27888E8113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655D-8616-40AD-AF26-59E37AA1144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5"/>
          <p:cNvSpPr/>
          <p:nvPr/>
        </p:nvSpPr>
        <p:spPr>
          <a:xfrm>
            <a:off x="3352680" y="3429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Y STUD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ocial 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304920" y="99072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ery sociabl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nly a few close friend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ery judgement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3657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me 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3733920" y="1828800"/>
            <a:ext cx="20574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hor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inn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levis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Text Box 13"/>
          <p:cNvSpPr/>
          <p:nvPr/>
        </p:nvSpPr>
        <p:spPr>
          <a:xfrm>
            <a:off x="7086600" y="380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utri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6781680" y="1828800"/>
            <a:ext cx="190512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ealthy lifestyl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ats mostly healthy food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731520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ffo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5943600" y="4343400"/>
            <a:ext cx="13716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verag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oom for improve-me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as potenti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Text Box 22"/>
          <p:cNvSpPr/>
          <p:nvPr/>
        </p:nvSpPr>
        <p:spPr>
          <a:xfrm>
            <a:off x="3352680" y="6553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Text Box 23"/>
          <p:cNvSpPr/>
          <p:nvPr/>
        </p:nvSpPr>
        <p:spPr>
          <a:xfrm>
            <a:off x="990720" y="559584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nologically advance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oesn’t take seriousl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ass Clow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Text Box 28"/>
          <p:cNvSpPr/>
          <p:nvPr/>
        </p:nvSpPr>
        <p:spPr>
          <a:xfrm>
            <a:off x="0" y="312408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hysic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cti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Rectangle 31"/>
          <p:cNvSpPr/>
          <p:nvPr/>
        </p:nvSpPr>
        <p:spPr>
          <a:xfrm>
            <a:off x="3352680" y="0"/>
            <a:ext cx="2286000" cy="312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Rectangle 32"/>
          <p:cNvSpPr/>
          <p:nvPr/>
        </p:nvSpPr>
        <p:spPr>
          <a:xfrm>
            <a:off x="6781680" y="380880"/>
            <a:ext cx="198144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Rectangle 33"/>
          <p:cNvSpPr/>
          <p:nvPr/>
        </p:nvSpPr>
        <p:spPr>
          <a:xfrm>
            <a:off x="5943600" y="3886200"/>
            <a:ext cx="3200400" cy="236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Rectangle 35"/>
          <p:cNvSpPr/>
          <p:nvPr/>
        </p:nvSpPr>
        <p:spPr>
          <a:xfrm>
            <a:off x="990720" y="5486400"/>
            <a:ext cx="396216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37"/>
          <p:cNvSpPr/>
          <p:nvPr/>
        </p:nvSpPr>
        <p:spPr>
          <a:xfrm>
            <a:off x="0" y="3048120"/>
            <a:ext cx="2971800" cy="1676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Rectangle 38"/>
          <p:cNvSpPr/>
          <p:nvPr/>
        </p:nvSpPr>
        <p:spPr>
          <a:xfrm>
            <a:off x="0" y="0"/>
            <a:ext cx="266688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Rectangle 40"/>
          <p:cNvSpPr/>
          <p:nvPr/>
        </p:nvSpPr>
        <p:spPr>
          <a:xfrm>
            <a:off x="3352680" y="3276720"/>
            <a:ext cx="198144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Line 41"/>
          <p:cNvSpPr/>
          <p:nvPr/>
        </p:nvSpPr>
        <p:spPr>
          <a:xfrm flipV="1">
            <a:off x="44197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Line 42"/>
          <p:cNvSpPr/>
          <p:nvPr/>
        </p:nvSpPr>
        <p:spPr>
          <a:xfrm flipV="1">
            <a:off x="5410080" y="21337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Line 43"/>
          <p:cNvSpPr/>
          <p:nvPr/>
        </p:nvSpPr>
        <p:spPr>
          <a:xfrm>
            <a:off x="5334120" y="419112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45"/>
          <p:cNvSpPr/>
          <p:nvPr/>
        </p:nvSpPr>
        <p:spPr>
          <a:xfrm>
            <a:off x="4267080" y="5029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Line 47"/>
          <p:cNvSpPr/>
          <p:nvPr/>
        </p:nvSpPr>
        <p:spPr>
          <a:xfrm flipH="1" flipV="1">
            <a:off x="3048120" y="3581280"/>
            <a:ext cx="3045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Line 49"/>
          <p:cNvSpPr/>
          <p:nvPr/>
        </p:nvSpPr>
        <p:spPr>
          <a:xfrm flipH="1" flipV="1">
            <a:off x="2666520" y="1218960"/>
            <a:ext cx="83844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51" descr="C:\Users\Becky\AppData\Local\Microsoft\Windows\Temporary Internet Files\Content.IE5\RGF727YC\MPj04422000000[1].jpg"/>
          <p:cNvPicPr/>
          <p:nvPr/>
        </p:nvPicPr>
        <p:blipFill>
          <a:blip r:embed="rId1"/>
          <a:stretch/>
        </p:blipFill>
        <p:spPr>
          <a:xfrm>
            <a:off x="3657600" y="390600"/>
            <a:ext cx="1676520" cy="1133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Users\Becky\AppData\Local\Microsoft\Windows\Temporary Internet Files\Content.IE5\ZS39ZASA\MPj04424270000[1].jpg"/>
          <p:cNvPicPr/>
          <p:nvPr/>
        </p:nvPicPr>
        <p:blipFill>
          <a:blip r:embed="rId2"/>
          <a:stretch/>
        </p:blipFill>
        <p:spPr>
          <a:xfrm>
            <a:off x="380880" y="380880"/>
            <a:ext cx="1447920" cy="6652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C:\Users\Becky\AppData\Local\Microsoft\Windows\Temporary Internet Files\Content.IE5\T7S85665\MPj04393190000[1].jpg"/>
          <p:cNvPicPr/>
          <p:nvPr/>
        </p:nvPicPr>
        <p:blipFill>
          <a:blip r:embed="rId3"/>
          <a:stretch/>
        </p:blipFill>
        <p:spPr>
          <a:xfrm>
            <a:off x="3505320" y="3733920"/>
            <a:ext cx="1676160" cy="12189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Users\Becky\AppData\Local\Microsoft\Windows\Temporary Internet Files\Content.IE5\EC9LU53N\MPj04424590000[1].jpg"/>
          <p:cNvPicPr/>
          <p:nvPr/>
        </p:nvPicPr>
        <p:blipFill>
          <a:blip r:embed="rId4"/>
          <a:stretch/>
        </p:blipFill>
        <p:spPr>
          <a:xfrm>
            <a:off x="7086600" y="426708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C:\Users\Becky\AppData\Local\Microsoft\Windows\Temporary Internet Files\Content.IE5\UI1V8P2P\MPj04387180000[1].jpg"/>
          <p:cNvPicPr/>
          <p:nvPr/>
        </p:nvPicPr>
        <p:blipFill>
          <a:blip r:embed="rId5"/>
          <a:stretch/>
        </p:blipFill>
        <p:spPr>
          <a:xfrm>
            <a:off x="6858000" y="838080"/>
            <a:ext cx="1828800" cy="990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C:\Users\Becky\AppData\Local\Microsoft\Windows\Temporary Internet Files\Content.IE5\EC9LU53N\MPj04436200000[1].jpg"/>
          <p:cNvPicPr/>
          <p:nvPr/>
        </p:nvPicPr>
        <p:blipFill>
          <a:blip r:embed="rId6"/>
          <a:stretch/>
        </p:blipFill>
        <p:spPr>
          <a:xfrm>
            <a:off x="1447920" y="312408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54"/>
          <p:cNvSpPr/>
          <p:nvPr/>
        </p:nvSpPr>
        <p:spPr>
          <a:xfrm>
            <a:off x="0" y="40384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ery Athleti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ery Activ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9" descr="C:\Users\Becky\AppData\Local\Microsoft\Windows\Temporary Internet Files\Content.IE5\PMRVGXY2\MPj04387530000[1].jpg"/>
          <p:cNvPicPr/>
          <p:nvPr/>
        </p:nvPicPr>
        <p:blipFill>
          <a:blip r:embed="rId7"/>
          <a:stretch/>
        </p:blipFill>
        <p:spPr>
          <a:xfrm>
            <a:off x="3429000" y="5562720"/>
            <a:ext cx="1295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Rebecca Morin</cp:lastModifiedBy>
  <dcterms:modified xsi:type="dcterms:W3CDTF">2010-02-15T22:10:44Z</dcterms:modified>
  <cp:revision>1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