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78D-B1C5-431B-A225-9467A1C3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5CE-2A82-4374-8FA7-ABD3FAA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535-A472-4F35-A94D-4952F2F3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8040-A15F-4C75-8F55-13502533D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AF7D-B51C-4FF7-8972-246B69E5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37F-1623-448A-9FDA-AA79AC1E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439-E2E0-44D7-882F-6BE9C14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244-798B-4809-BE0E-EFBED1C0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7DB5-13FB-4F28-B7F0-51EEE6B2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C07-981F-40BE-8A1E-5E1002D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7F4-A8E1-4B32-91EC-0C6F5E9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B60-C001-49EC-8C3A-25F72E8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E2F2A-FFC0-455C-A32E-33726E8939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86800" y="4572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38320" y="914400"/>
            <a:ext cx="1162080" cy="92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1450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931240" y="3451320"/>
            <a:ext cx="876240" cy="66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2286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hey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ation and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2286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in Their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Computer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to email, cell phones, and television through adult or older infl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600"/>
            <a:ext cx="459432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Home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ing Family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-Economic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 and Personal Ideologies a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Levels of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37520" y="320040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-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y Sn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Degre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al L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32004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2.5-6 year 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hool/Pre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9200" y="2284560"/>
            <a:ext cx="6858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427560" y="1827360"/>
            <a:ext cx="917280" cy="1374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98960" y="3657600"/>
            <a:ext cx="4600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029200"/>
            <a:ext cx="21016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School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on with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fortable Home-Lik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portunity for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iculum Based Instruction to Foster Exploration, Discovery, and 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58200" y="594360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65920" y="5029200"/>
            <a:ext cx="4114800" cy="2286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5715000"/>
            <a:ext cx="375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s/Demea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Tempera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Individu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nging from inquisitive and energetic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drawn and melancho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” to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150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8960" y="4572000"/>
            <a:ext cx="4600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316320" y="58420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886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59:12Z</dcterms:created>
  <dc:creator>Jocelyn  Malloy</dc:creator>
  <dc:description/>
  <dc:language>en-US</dc:language>
  <cp:lastModifiedBy/>
  <cp:revision>1</cp:revision>
  <dc:subject/>
  <dc:title/>
</cp:coreProperties>
</file>