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8D8-536C-4E5F-AF62-4F0CD550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C2E-2473-423E-ABBC-315FC99E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660-30E2-45FA-B062-3E585B37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4CE-80F7-4E0A-AA34-BCE4D8AC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14C-DEA3-4FFE-80A8-DB4E8B44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F7E-C189-460A-A5EB-397F9AD3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C38-477C-4306-B1A2-4735E3B7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430-FFC6-4F33-94E4-BF2E1EA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13B-9F5D-40AE-B7A6-4C7312CA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580-49A8-47AD-B581-DC7383D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DE7-3D53-46B5-9E71-5D1640B9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0EE-E907-4C21-A3C1-0BBE28C1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114CA-AEC6-4EA6-84E3-965080B4A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686800" y="4572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38320" y="914400"/>
            <a:ext cx="1162080" cy="92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28800" y="3200400"/>
            <a:ext cx="1450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931240" y="3451320"/>
            <a:ext cx="876240" cy="66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8580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85800"/>
            <a:ext cx="2286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hey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ation and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320040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43200"/>
            <a:ext cx="22860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in Their L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ve Computer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to email, cell phones, and television through adult or older infl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28600"/>
            <a:ext cx="459432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Home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ing Family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-Economic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al and Personal Ideologies a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Levels of Invol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37520" y="3200400"/>
            <a:ext cx="27432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-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y Sn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Degree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al Lun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200400"/>
            <a:ext cx="32004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2.5-6 year 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chool/Pre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29200" y="2284560"/>
            <a:ext cx="685800" cy="91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427560" y="1827360"/>
            <a:ext cx="917280" cy="1374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198960" y="3657600"/>
            <a:ext cx="46008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5029200"/>
            <a:ext cx="21016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School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on with P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fortable Home-Lik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portunity for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iculum Based Instruction to Foster Exploration, Discovery, and 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58200" y="5943600"/>
            <a:ext cx="1371600" cy="119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65920" y="5029200"/>
            <a:ext cx="4114800" cy="2286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5715000"/>
            <a:ext cx="375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s/Demea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 Tempera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Individu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anging from inquisitive and energetic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drawn and melancho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” to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15000"/>
            <a:ext cx="3886200" cy="1600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8960" y="4572000"/>
            <a:ext cx="46008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316320" y="5842080"/>
            <a:ext cx="457200" cy="45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940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886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4:59:12Z</dcterms:created>
  <dc:creator>Jocelyn  Malloy</dc:creator>
  <dc:description/>
  <dc:language>en-US</dc:language>
  <cp:lastModifiedBy/>
  <cp:revision>1</cp:revision>
  <dc:subject/>
  <dc:title/>
</cp:coreProperties>
</file>