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A253-10A3-4371-947D-AD47793A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EF2-4814-436F-8C9B-43755010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8D29-87A3-4616-A102-005FE8D6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D6C2-399E-4402-8873-C707AEAA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E0C3-1F43-4BBD-B66F-15BAEDA2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547E-95FA-435B-949E-36D40E17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35D-FDA7-416A-884E-F4186985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2F6-EEE7-4778-8202-17D594D9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FDBA-4C4A-4020-B145-6CD4637B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826-EEF2-4477-A656-090F89C8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4C7-A0A4-4E82-BD97-F6EB7A97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933-44DF-4A50-B006-EE57DE7B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86E9A-8A41-4DE9-BE11-EE0B7274B1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686800" y="45720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038320" y="914400"/>
            <a:ext cx="1162080" cy="923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828800" y="3200400"/>
            <a:ext cx="145080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931240" y="3451320"/>
            <a:ext cx="876240" cy="66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85800"/>
            <a:ext cx="2971800" cy="11430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85800"/>
            <a:ext cx="22860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They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loration and 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ginative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514600"/>
            <a:ext cx="3200400" cy="27432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743200"/>
            <a:ext cx="228600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y in Their L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active Computer G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deo G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osure to email, cell phones, and television through adult or older influ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228600"/>
            <a:ext cx="4594320" cy="27432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ir Home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ering Family 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-Economic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ltural and Personal Ideologies a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guage Barr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ying Levels of Invol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37520" y="3200400"/>
            <a:ext cx="2743200" cy="13716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tr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-Provi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lthy Sn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ying Degrees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tritional Lun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200400"/>
            <a:ext cx="3200400" cy="13716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d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: 2.5-6 year 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chool/Prekindergar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029200" y="2284560"/>
            <a:ext cx="685800" cy="917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427560" y="1827360"/>
            <a:ext cx="917280" cy="1374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198960" y="3657600"/>
            <a:ext cx="46008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5029200"/>
            <a:ext cx="21016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ir School Se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action with Pe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fortable Home-Like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portunity for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iculum Based Instruction to Foster Exploration, Discovery, and Imaginative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58200" y="5943600"/>
            <a:ext cx="1371600" cy="1193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65920" y="5029200"/>
            <a:ext cx="4114800" cy="22860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" y="5715000"/>
            <a:ext cx="3759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itudes/Demean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erent Tempera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d on Individual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anging from inquisitive and energetic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drawn and melancho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onges” to their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715000"/>
            <a:ext cx="3886200" cy="16002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8960" y="4572000"/>
            <a:ext cx="460080" cy="1143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3316320" y="5842080"/>
            <a:ext cx="457200" cy="455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29400" y="4572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38862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4:59:12Z</dcterms:created>
  <dc:creator>Jocelyn  Malloy</dc:creator>
  <dc:description/>
  <dc:language>en-US</dc:language>
  <cp:lastModifiedBy/>
  <cp:revision>1</cp:revision>
  <dc:subject/>
  <dc:title/>
</cp:coreProperties>
</file>