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626E-9777-41CE-AD1C-5B3080D2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AAC-5256-4561-823C-7553C736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E0E-1E86-4AE7-B3E0-6B039175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580-AAAA-47FC-AAC2-4EB4A7D7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F9C-6264-4273-847B-FB705F4F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C40-D16B-4C43-BF01-F0A09689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C7A-A3DB-4E35-8D03-87C854B1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283-E2DD-403C-AC87-4A6D41C4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98E-BB58-4336-ABEF-2F16613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637-90F8-4596-B5C0-46E5C0FC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3DB-4217-4CEB-8152-DE72AE67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E4F-5BCE-4C05-A1E0-E797569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65235-A66F-4713-ADD5-B40B584FA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686800" y="45720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38320" y="914400"/>
            <a:ext cx="1162080" cy="923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28800" y="3200400"/>
            <a:ext cx="145080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931240" y="3451320"/>
            <a:ext cx="876240" cy="66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68580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85800"/>
            <a:ext cx="2286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hey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ation and 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14600"/>
            <a:ext cx="320040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743200"/>
            <a:ext cx="22860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in Their L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ve Computer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deo G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sure to email, cell phones, and television through adult or older infl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28600"/>
            <a:ext cx="4594320" cy="2743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Home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ing Family Stru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-Economic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ltural and Personal Ideologies a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guage Barr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Levels of Invol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37520" y="3200400"/>
            <a:ext cx="27432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-Prov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y Sn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ying Degree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tritional Lun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200400"/>
            <a:ext cx="3200400" cy="13716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: 2.5-6 year 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chool/Prekindergar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29200" y="2284560"/>
            <a:ext cx="685800" cy="917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427560" y="1827360"/>
            <a:ext cx="917280" cy="1374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198960" y="3657600"/>
            <a:ext cx="460080" cy="228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5029200"/>
            <a:ext cx="21016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ir School Se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on with Pe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Tea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fortable Home-Like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portunity for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iculum Based Instruction to Foster Exploration, Discovery, and Imaginative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58200" y="5943600"/>
            <a:ext cx="1371600" cy="119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65920" y="5029200"/>
            <a:ext cx="4114800" cy="22860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8760" y="5715000"/>
            <a:ext cx="3759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itudes/Demea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erent Tempera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Individual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anging from inquisitive and energetic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drawn and melancho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onges” to their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715000"/>
            <a:ext cx="3886200" cy="1600200"/>
          </a:xfrm>
          <a:prstGeom prst="roundRect">
            <a:avLst>
              <a:gd name="adj" fmla="val 16667"/>
            </a:avLst>
          </a:prstGeom>
          <a:solidFill>
            <a:srgbClr val="000000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8960" y="4572000"/>
            <a:ext cx="46008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3316320" y="5842080"/>
            <a:ext cx="457200" cy="455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29400" y="4572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8862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4:59:12Z</dcterms:created>
  <dc:creator>Jocelyn  Malloy</dc:creator>
  <dc:description/>
  <dc:language>en-US</dc:language>
  <cp:lastModifiedBy/>
  <cp:revision>1</cp:revision>
  <dc:subject/>
  <dc:title/>
</cp:coreProperties>
</file>