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E660-9F8E-4E96-9EC2-024EF8F5C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1659-E0EF-40CE-BBF6-84B776544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D32C-36AD-4763-A7F1-3E6031305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2980-5DE5-43BD-BB6D-5D963CEB9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C150-4411-44F8-A927-5A5A64CCE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A3F3-B8FA-4487-833B-AAC7AB389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7B7C-9414-4464-ABF9-1ECEAC863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87AF-7B6E-443D-A3FB-D07A44DCE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8EB5-2FF6-43A2-BF75-68793DC8B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12B7-CCCF-4158-BB16-59EC76EBF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F697-7C3E-413F-9E7E-2D22F020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1236-663A-4FDA-BB96-E4F22714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CECAF-58BF-4FF7-824A-153BD8FB07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800600" y="3124080"/>
            <a:ext cx="2362320" cy="2438640"/>
          </a:xfrm>
          <a:custGeom>
            <a:avLst/>
            <a:gdLst>
              <a:gd name="textAreaLeft" fmla="*/ 590400 w 2362320"/>
              <a:gd name="textAreaRight" fmla="*/ 1771920 w 2362320"/>
              <a:gd name="textAreaTop" fmla="*/ 609480 h 2438640"/>
              <a:gd name="textAreaBottom" fmla="*/ 1829160 h 24386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6c46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halkboard Bold"/>
              </a:rPr>
              <a:t>K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halkboard Bold"/>
              </a:rPr>
              <a:t>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371600"/>
            <a:ext cx="2362320" cy="2438280"/>
          </a:xfrm>
          <a:custGeom>
            <a:avLst/>
            <a:gdLst>
              <a:gd name="textAreaLeft" fmla="*/ 590400 w 2362320"/>
              <a:gd name="textAreaRight" fmla="*/ 1771920 w 2362320"/>
              <a:gd name="textAreaTop" fmla="*/ 609480 h 2438280"/>
              <a:gd name="textAreaBottom" fmla="*/ 1828800 h 243828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halkboard Bold"/>
              </a:rPr>
              <a:t>Today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halkboard Bold"/>
              </a:rPr>
              <a:t>Tea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3962520"/>
            <a:ext cx="1143000" cy="91440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 Bold"/>
              </a:rPr>
              <a:t>Tech 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 Bold"/>
              </a:rPr>
              <a:t>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 Bold"/>
              </a:rPr>
              <a:t>Classro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105520" y="2133720"/>
            <a:ext cx="1143000" cy="91440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 Bold"/>
              </a:rPr>
              <a:t>Tech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 Bold"/>
              </a:rPr>
              <a:t>Home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3429000" y="533520"/>
            <a:ext cx="914400" cy="838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 Bold"/>
              </a:rPr>
              <a:t>St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086600" y="4038480"/>
            <a:ext cx="990720" cy="609840"/>
          </a:xfrm>
          <a:prstGeom prst="parallelogram">
            <a:avLst>
              <a:gd name="adj" fmla="val 4061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alkboard Bold"/>
              </a:rPr>
              <a:t>Disconn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562720" y="5562720"/>
            <a:ext cx="1028520" cy="914400"/>
          </a:xfrm>
          <a:prstGeom prst="horizontalScroll">
            <a:avLst>
              <a:gd name="adj" fmla="val 12500"/>
            </a:avLst>
          </a:prstGeom>
          <a:solidFill>
            <a:srgbClr val="ff07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 Bold"/>
              </a:rPr>
              <a:t>Mu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 Bold"/>
              </a:rPr>
              <a:t>Ha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057400"/>
            <a:ext cx="914400" cy="990720"/>
          </a:xfrm>
          <a:prstGeom prst="verticalScroll">
            <a:avLst>
              <a:gd name="adj" fmla="val 12500"/>
            </a:avLst>
          </a:prstGeom>
          <a:solidFill>
            <a:srgbClr val="e3cb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 Bold"/>
              </a:rPr>
              <a:t>Ne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 Bold"/>
              </a:rPr>
              <a:t>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 Bold"/>
              </a:rPr>
              <a:t>Kn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19920" y="22860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 flipV="1">
            <a:off x="5333760" y="18288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4572000" y="3048120"/>
            <a:ext cx="60948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5791320" y="18288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7162920" y="38862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772400" y="365760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696080" y="44197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7314840" y="457200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553080" y="571464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77120" y="60199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419720" y="480060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8640" y="48769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819160" y="4343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3048120" y="388584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866920" y="63244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5181480" y="61718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209680" y="167652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 flipV="1">
            <a:off x="1523880" y="2438280"/>
            <a:ext cx="457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1676520" y="29718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1523880" y="175212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114800" y="990720"/>
            <a:ext cx="7621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191120" y="609480"/>
            <a:ext cx="457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666880" y="1218960"/>
            <a:ext cx="76212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6324120" y="480060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2971440" y="53316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38280" y="5257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5181480"/>
            <a:ext cx="7621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 Bold"/>
              </a:rPr>
              <a:t>Vid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86200" y="5867280"/>
            <a:ext cx="11430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 Bold"/>
              </a:rPr>
              <a:t>Cell Phone </a:t>
            </a:r>
            <a:r>
              <a:rPr b="0" lang="en-US" sz="1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934320" y="6400800"/>
            <a:ext cx="1523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 Bold"/>
              </a:rPr>
              <a:t>AIM, Youtube </a:t>
            </a:r>
            <a:r>
              <a:rPr b="0" lang="en-US" sz="1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95680" y="6477120"/>
            <a:ext cx="129564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 Bold"/>
              </a:rPr>
              <a:t>Facebook </a:t>
            </a:r>
            <a:r>
              <a:rPr b="0" lang="en-US" sz="1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934320" y="5486400"/>
            <a:ext cx="10666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 Bold"/>
              </a:rPr>
              <a:t>Ipod </a:t>
            </a:r>
            <a:r>
              <a:rPr b="0" lang="en-US" sz="1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162920" y="5029200"/>
            <a:ext cx="167616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 Bold"/>
              </a:rPr>
              <a:t>Headph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305920" y="4267080"/>
            <a:ext cx="6858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 Bold"/>
              </a:rPr>
              <a:t>Virt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 Bold"/>
              </a:rPr>
              <a:t>Sp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077320" y="2819520"/>
            <a:ext cx="76176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 Bold"/>
              </a:rPr>
              <a:t>Virt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 Bold"/>
              </a:rPr>
              <a:t>Worl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781680" y="2819520"/>
            <a:ext cx="9907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 Bold"/>
              </a:rPr>
              <a:t>Ereser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05720" y="3581280"/>
            <a:ext cx="99036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 Bold"/>
              </a:rPr>
              <a:t>Post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2057400"/>
            <a:ext cx="9144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 Bold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 Bold"/>
              </a:rPr>
              <a:t>Blo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72200" y="129528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 Bold"/>
              </a:rPr>
              <a:t>Power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1371600"/>
            <a:ext cx="11430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 Bold"/>
              </a:rPr>
              <a:t>Vide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 Bold"/>
              </a:rPr>
              <a:t>Pres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952880" y="762120"/>
            <a:ext cx="15242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 Bold"/>
              </a:rPr>
              <a:t>Being Tech Savv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24280" y="304920"/>
            <a:ext cx="11430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 Bold"/>
              </a:rPr>
              <a:t>Tech Sup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76520" y="228600"/>
            <a:ext cx="121896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 Bold"/>
              </a:rPr>
              <a:t>Fun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3352680"/>
            <a:ext cx="12956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 Bold"/>
              </a:rPr>
              <a:t>The “I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 Bold"/>
              </a:rPr>
              <a:t>Wor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2286000"/>
            <a:ext cx="12193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 Bold"/>
              </a:rPr>
              <a:t>Wikis </a:t>
            </a:r>
            <a:r>
              <a:rPr b="0" lang="en-US" sz="1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1066680"/>
            <a:ext cx="106704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 Bold"/>
              </a:rPr>
              <a:t>Microsof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76720"/>
            <a:ext cx="7621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 Bold"/>
              </a:rPr>
              <a:t>Compu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 Bold"/>
              </a:rPr>
              <a:t>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76520" y="4191120"/>
            <a:ext cx="10666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98480" y="4191120"/>
            <a:ext cx="10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 Bold"/>
              </a:rPr>
              <a:t>Smart 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14600" y="5334120"/>
            <a:ext cx="7621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 Bold"/>
              </a:rPr>
              <a:t>On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 Bold"/>
              </a:rPr>
              <a:t>Cour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10280" y="640080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94520" y="1371600"/>
            <a:ext cx="1272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828800" y="1066680"/>
            <a:ext cx="10666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 Bold"/>
              </a:rPr>
              <a:t>Audio/Vid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 Bold"/>
              </a:rPr>
              <a:t>Te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3T15:34:48Z</dcterms:created>
  <dc:creator>Alyssa McGarvey User</dc:creator>
  <dc:description/>
  <dc:language>en-US</dc:language>
  <cp:lastModifiedBy>Alyssa McGarvey User</cp:lastModifiedBy>
  <dcterms:modified xsi:type="dcterms:W3CDTF">2010-02-13T17:54:29Z</dcterms:modified>
  <cp:revision>3</cp:revision>
  <dc:subject/>
  <dc:title>PowerPoint Presentation</dc:title>
</cp:coreProperties>
</file>