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F96-8B6A-462D-9923-D89974E5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38B-5502-4F83-9783-3A3A983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15C-E448-4AEF-A3A9-F922E2B3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DBF-2678-4C51-A151-3BC40D48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A39-0CDC-4EF1-B93D-15952F6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578-64B3-4031-B8D8-153EF30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B98-8763-4443-AFDB-50755DE1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7D3-630F-4661-ABD9-188BA9EF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FA2-C375-40E0-B542-43FEED2E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62E-2627-484E-9C50-83E4E57F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FF7-7544-484F-8740-490BF11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2CA-2F5A-4FAC-950D-813383D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B166-EEEA-45CA-8075-EDC4DD46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3124080"/>
            <a:ext cx="2362320" cy="243864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640"/>
              <a:gd name="textAreaBottom" fmla="*/ 1829160 h 2438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c46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371600"/>
            <a:ext cx="2362320" cy="243828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280"/>
              <a:gd name="textAreaBottom" fmla="*/ 1828800 h 2438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39625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21337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429000" y="5335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4038480"/>
            <a:ext cx="990720" cy="609840"/>
          </a:xfrm>
          <a:prstGeom prst="parallelogram">
            <a:avLst>
              <a:gd name="adj" fmla="val 406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Dis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562720"/>
            <a:ext cx="1028520" cy="914400"/>
          </a:xfrm>
          <a:prstGeom prst="horizontalScroll">
            <a:avLst>
              <a:gd name="adj" fmla="val 12500"/>
            </a:avLst>
          </a:prstGeom>
          <a:solidFill>
            <a:srgbClr val="ff07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057400"/>
            <a:ext cx="914400" cy="990720"/>
          </a:xfrm>
          <a:prstGeom prst="verticalScroll">
            <a:avLst>
              <a:gd name="adj" fmla="val 12500"/>
            </a:avLst>
          </a:prstGeom>
          <a:solidFill>
            <a:srgbClr val="e3cb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Kn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2286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333760" y="1828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3048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91320" y="182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716292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772400" y="3657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14840" y="4572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53080" y="57146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019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04812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6324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1480" y="6171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09680" y="1676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52388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76520" y="2971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880" y="1752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9907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91120" y="6094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121896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324120" y="48006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971440" y="533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1814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8672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ell Phon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4008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IM, Youtub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647712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acebook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54864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Ipod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029200"/>
            <a:ext cx="1676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Head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4267080"/>
            <a:ext cx="685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2819520"/>
            <a:ext cx="7617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19520"/>
            <a:ext cx="990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E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358128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s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057400"/>
            <a:ext cx="914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129528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3716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762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eing Tech Sav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04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286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3526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he “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ikis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066680"/>
            <a:ext cx="1067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76720"/>
            <a:ext cx="762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191120"/>
            <a:ext cx="1066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419112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mart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53341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94520" y="1371600"/>
            <a:ext cx="127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066680"/>
            <a:ext cx="1066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34:48Z</dcterms:created>
  <dc:creator>Alyssa McGarvey User</dc:creator>
  <dc:description/>
  <dc:language>en-US</dc:language>
  <cp:lastModifiedBy>Alyssa McGarvey User</cp:lastModifiedBy>
  <dcterms:modified xsi:type="dcterms:W3CDTF">2010-02-13T17:54:29Z</dcterms:modified>
  <cp:revision>3</cp:revision>
  <dc:subject/>
  <dc:title>PowerPoint Presentation</dc:title>
</cp:coreProperties>
</file>