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065-4B33-4A58-8A19-6EFA4A8C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8D4-0A98-4B5D-AAD0-D0D5190B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B4FA-F8C1-44AF-BB1C-9276FE3F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383-89A4-49FE-AC18-7BB7AB43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5613-5EFC-434E-AE75-0D9632A6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E12-BDA3-479D-9689-0A2BAD51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3320-A46D-47BF-AA97-7EEB8868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32F-CD06-4155-BDF5-94FB3285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0230-FBBD-45F6-A480-431BC76A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AC4-8803-4CFF-946C-162A022E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33E-8D86-45C8-BE15-E6E993C5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973-F662-49F3-A8AA-5587A62E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FEE8-D823-490F-A73A-0274CFA15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00600" y="3124080"/>
            <a:ext cx="2362320" cy="2438640"/>
          </a:xfrm>
          <a:custGeom>
            <a:avLst/>
            <a:gdLst>
              <a:gd name="textAreaLeft" fmla="*/ 590400 w 2362320"/>
              <a:gd name="textAreaRight" fmla="*/ 1771920 w 2362320"/>
              <a:gd name="textAreaTop" fmla="*/ 609480 h 2438640"/>
              <a:gd name="textAreaBottom" fmla="*/ 1829160 h 24386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6c46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 Bold"/>
              </a:rPr>
              <a:t>K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 Bold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371600"/>
            <a:ext cx="2362320" cy="2438280"/>
          </a:xfrm>
          <a:custGeom>
            <a:avLst/>
            <a:gdLst>
              <a:gd name="textAreaLeft" fmla="*/ 590400 w 2362320"/>
              <a:gd name="textAreaRight" fmla="*/ 1771920 w 2362320"/>
              <a:gd name="textAreaTop" fmla="*/ 609480 h 2438280"/>
              <a:gd name="textAreaBottom" fmla="*/ 1828800 h 24382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 Bold"/>
              </a:rPr>
              <a:t>Toda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 Bold"/>
              </a:rPr>
              <a:t>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396252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Tech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213372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Tech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Ho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429000" y="533520"/>
            <a:ext cx="91440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St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86600" y="4038480"/>
            <a:ext cx="990720" cy="609840"/>
          </a:xfrm>
          <a:prstGeom prst="parallelogram">
            <a:avLst>
              <a:gd name="adj" fmla="val 406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Dis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5562720"/>
            <a:ext cx="1028520" cy="914400"/>
          </a:xfrm>
          <a:prstGeom prst="horizontalScroll">
            <a:avLst>
              <a:gd name="adj" fmla="val 12500"/>
            </a:avLst>
          </a:prstGeom>
          <a:solidFill>
            <a:srgbClr val="ff07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M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Ha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057400"/>
            <a:ext cx="914400" cy="990720"/>
          </a:xfrm>
          <a:prstGeom prst="verticalScroll">
            <a:avLst>
              <a:gd name="adj" fmla="val 12500"/>
            </a:avLst>
          </a:prstGeom>
          <a:solidFill>
            <a:srgbClr val="e3cb5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halkboard Bold"/>
              </a:rPr>
              <a:t>Kn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19920" y="22860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5333760" y="1828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572000" y="3048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791320" y="1828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7162920" y="3886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772400" y="36576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96080" y="4419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314840" y="45720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553080" y="571464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6019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48006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8640" y="4876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81916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048120" y="3885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866920" y="6324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81480" y="61718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209680" y="16765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1523880" y="24382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676520" y="29718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523880" y="17521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99072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191120" y="6094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66880" y="121896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324120" y="48006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971440" y="5331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38280" y="5257800"/>
            <a:ext cx="990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518148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5867280"/>
            <a:ext cx="1143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Cell Phone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6400800"/>
            <a:ext cx="1523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AIM, Youtube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6477120"/>
            <a:ext cx="1295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Facebook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548640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Ipod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5029200"/>
            <a:ext cx="16761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Headph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05920" y="4267080"/>
            <a:ext cx="6858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2819520"/>
            <a:ext cx="76176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Vir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Wor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2819520"/>
            <a:ext cx="9907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Eres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3581280"/>
            <a:ext cx="9903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Pos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2057400"/>
            <a:ext cx="914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129528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3716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Vide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76212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Being Tech Sav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3049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Tech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28600"/>
            <a:ext cx="1218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Fu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335268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The “I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286000"/>
            <a:ext cx="1219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Wikis </a:t>
            </a:r>
            <a:r>
              <a:rPr b="0" lang="en-US" sz="1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066680"/>
            <a:ext cx="10670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Microsof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76720"/>
            <a:ext cx="762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Comp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191120"/>
            <a:ext cx="10666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98480" y="4191120"/>
            <a:ext cx="10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Smart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5334120"/>
            <a:ext cx="762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6400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94520" y="1371600"/>
            <a:ext cx="1272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1066680"/>
            <a:ext cx="10666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Audio/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halkboard Bold"/>
              </a:rPr>
              <a:t>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34:48Z</dcterms:created>
  <dc:creator>Alyssa McGarvey User</dc:creator>
  <dc:description/>
  <dc:language>en-US</dc:language>
  <cp:lastModifiedBy>Alyssa McGarvey User</cp:lastModifiedBy>
  <dcterms:modified xsi:type="dcterms:W3CDTF">2010-02-13T17:54:29Z</dcterms:modified>
  <cp:revision>3</cp:revision>
  <dc:subject/>
  <dc:title>PowerPoint Presentation</dc:title>
</cp:coreProperties>
</file>