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13C-A2CF-4C99-9D9F-BDE3D974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969-972C-4218-8AD2-272DF75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978-982A-45E1-8AAD-53B5716D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3D6-DF9B-4B98-96E6-0C6254D4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8C1-03C8-4AB2-8864-672A2B6F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1D0-9F19-4D59-95D7-37D555C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C0E1-3B8E-4AFD-9364-3E66B7A1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A036-4AD5-43B0-B86D-6961BF33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6CC-ACFB-4A3B-B33B-26F43A25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2135-3809-487B-9CEC-11E338C3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F11D-B91B-48DB-A47B-9A11831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9C3-C92E-4922-BABD-025CC44E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AF2-323A-48DF-B688-3BB9C67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A596-0BD4-4BDF-A96C-C41482A2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314-0DF6-40C0-B5D9-BC51142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0756-819F-4102-BA55-850D5730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E1B2-F872-44CF-9AD2-C1093DAB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9F4-02C1-46ED-8032-CDAC7D48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86E-B591-4EF5-9BAF-EAB5ED07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E71-02F4-44BD-9F39-E6FEF322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DEC-F5E1-4B2B-AB33-D0ED751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7D1-869C-44A7-9BCB-B920672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94A-690E-4229-95D7-E49A933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A8F-F136-402F-AE78-FA55640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310-38B1-41FB-A052-72093B4A48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53D-F9AC-4969-9E37-3D8C136117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id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acquain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acce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695240" cy="137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bysit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159552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63520" cy="1171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315200" y="152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1676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384200" cy="1647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315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5812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z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315200" y="5562720"/>
            <a:ext cx="1219320" cy="957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52680" y="5562720"/>
            <a:ext cx="152424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59584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Sav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responsi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2280" y="4114800"/>
            <a:ext cx="1105200" cy="1206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114800"/>
            <a:ext cx="1828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0" y="2590920"/>
            <a:ext cx="1219320" cy="103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447920" y="2057400"/>
            <a:ext cx="1600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thusi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ck of appreciation for the basic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for lead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3600" y="29718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administrator</cp:lastModifiedBy>
  <dcterms:modified xsi:type="dcterms:W3CDTF">2010-02-09T13:43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