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487-F673-48FF-A288-9A45F401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CBA-4017-47ED-A437-6A57FDE0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086-92E2-4BC6-BD9B-6FAFCDC2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E13-1BA7-4631-B3D1-B4CE7026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F6E7-B2D2-445D-A7F8-F2D5D772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1CA2-0A62-4628-A353-540B23B5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FFA5-6067-48A5-A0E6-7E28427B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5A0D-78CE-4264-867C-3E7217BC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976E-0B43-4B49-830E-587782FC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9825-D75B-42B8-975A-3417170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C001-0785-4362-8D51-E17246A5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6C7-808C-4D0A-A178-A438AD13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7509-F752-4EBF-9EDA-8CF97E4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A309-8E10-433E-AC90-7CF2F4D7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4C40-5F28-4212-B709-05E1EE67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470E-08C5-4B1E-93D0-0E36A540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AA38-2E40-4431-84E6-FE45CD07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68E-35D4-43AE-8C93-2D2ADB78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45B-D603-4EEB-A8FB-D022C2F7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9B6-94EF-4B42-9519-1BF0310E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1F2A-5D43-4A98-9FF4-8ECCCA17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CF1-3288-4A9F-81F9-A7558573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4D5-72B2-41FC-AFEA-BF971591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BD7-D2E9-4B32-959D-6D946327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5E3B-D0F9-4B77-AED4-A95C98A0C4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D982-67F3-4610-A9E4-4A39F203F0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76160" cy="761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id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ny acquain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acce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1695240" cy="1373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abysit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1595520" cy="1068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391520" y="609480"/>
            <a:ext cx="1163520" cy="1171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315200" y="152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81680" y="167652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7315200" y="3276720"/>
            <a:ext cx="1384200" cy="1647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3152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58128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z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tit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7315200" y="5562720"/>
            <a:ext cx="1219320" cy="957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3352680" y="5562720"/>
            <a:ext cx="1524240" cy="985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5595840"/>
            <a:ext cx="2666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Savv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responsi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8"/>
          <a:stretch/>
        </p:blipFill>
        <p:spPr>
          <a:xfrm>
            <a:off x="152280" y="4114800"/>
            <a:ext cx="1105200" cy="1206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4114800"/>
            <a:ext cx="1828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0" y="2590920"/>
            <a:ext cx="1219320" cy="10396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447920" y="2057400"/>
            <a:ext cx="1600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thusi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ck of appreciation for the basic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for lead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verybody w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43600" y="2971800"/>
            <a:ext cx="320040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administrator</cp:lastModifiedBy>
  <dcterms:modified xsi:type="dcterms:W3CDTF">2010-02-09T13:43:3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