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4CF-6044-451C-8C22-CB9B4C8A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5EB0-C74F-423D-A4E8-FBCD590B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C9B-F737-48DC-8A97-2026B13A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62CC-56C9-46AE-9A10-844CEED2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7DC-8E9B-4A7F-87E5-2B7A5068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491-E582-490B-8797-9C907639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18A-5D70-405D-ACAD-18C81429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1695-5C0B-4DF5-ADB1-523FDA50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E36-8429-4AA8-BEC1-8D57A337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C37-5F7F-4446-8021-8776BFB2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05A-D301-4774-9D99-18B1532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B1A-DCD6-4552-99AC-76F36DC8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3E24-E78A-4878-84D4-218DD9BCD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29718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676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mmersed i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743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Digit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You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hoto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685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“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expected”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057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lugg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341000">
            <a:off x="5791680" y="1294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i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293800">
            <a:off x="6781680" y="1219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Handheld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2743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an help or hind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657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Digital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37339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tex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Music shar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4800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ist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819520"/>
            <a:ext cx="1447560" cy="68580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523880"/>
            <a:ext cx="1904760" cy="990720"/>
          </a:xfrm>
          <a:prstGeom prst="ellipse">
            <a:avLst/>
          </a:prstGeom>
          <a:noFill/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28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0"/>
            <a:ext cx="1600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3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295280" y="7621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2189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990720" y="24382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124080" y="23623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200400" y="12189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905120"/>
            <a:ext cx="1447920" cy="609480"/>
          </a:xfrm>
          <a:prstGeom prst="ellipse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2057400"/>
            <a:ext cx="12189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105520" y="24379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4852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5800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2209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2362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2819520"/>
            <a:ext cx="1676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5812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4419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480060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Social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5257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1008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9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ee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17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Broadcasting one’s 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6248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False 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095880"/>
            <a:ext cx="1066680" cy="609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6172200"/>
            <a:ext cx="137160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6248520"/>
            <a:ext cx="129564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876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410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Photocopi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5486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nternet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6400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6216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exus nexu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5486400"/>
            <a:ext cx="9907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962520" y="4724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819160" y="5105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1055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42640" y="56386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52578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360" y="60199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6095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1752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124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Multi tas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048120"/>
            <a:ext cx="1600200" cy="609480"/>
          </a:xfrm>
          <a:prstGeom prst="ellipse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Gaming, social networking whil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Lack of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01000" y="4114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Convenience of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059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Quality vs.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65760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Irresponsibility – ex, text while d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3429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5:09Z</dcterms:created>
  <dc:creator>administrator</dc:creator>
  <dc:description/>
  <dc:language>en-US</dc:language>
  <cp:lastModifiedBy>administrator</cp:lastModifiedBy>
  <dcterms:modified xsi:type="dcterms:W3CDTF">2010-02-11T14:25:29Z</dcterms:modified>
  <cp:revision>2</cp:revision>
  <dc:subject/>
  <dc:title>Slide 1</dc:title>
</cp:coreProperties>
</file>