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3EC-82D4-4848-9459-5C4EEE6D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3AE-6CBA-4581-89D8-C7D6AEDF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5F0-40D1-4355-9D81-20A65F64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32F-5729-456B-9961-F7D67438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BC3-03D7-432F-BCE7-C94FB539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98E-A97D-4E4B-B037-EAACF88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C74-F329-41BE-97E7-7D414A5A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430-587F-499D-90CD-7A6AE6C6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711-CBCC-45A8-BA6E-587DFCDA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22A-CC88-48B6-90D4-5607D06B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1C3-50A1-4998-BF98-5C8DD9DC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689-1908-4641-BA79-BEE3354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D365-C147-4982-B5A4-8D46D96D5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29718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676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mmersed i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743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Digit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Yo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hoto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685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“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expected”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057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lugg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341000">
            <a:off x="5791680" y="1294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i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93800">
            <a:off x="6781680" y="1219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Handhel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an help or hin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657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Digital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733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tex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Music shar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800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ist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819520"/>
            <a:ext cx="1447560" cy="68580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523880"/>
            <a:ext cx="1904760" cy="99072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0"/>
            <a:ext cx="1600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3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295280" y="7621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189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990720" y="24382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124080" y="23623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00400" y="1218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905120"/>
            <a:ext cx="1447920" cy="609480"/>
          </a:xfrm>
          <a:prstGeom prst="ellipse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057400"/>
            <a:ext cx="1218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105520" y="24379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4852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5800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2209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2362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2819520"/>
            <a:ext cx="1676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5812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419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480060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Soci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5257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ee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17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Broadcasting one’s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624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False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095880"/>
            <a:ext cx="106668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6172200"/>
            <a:ext cx="13716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6248520"/>
            <a:ext cx="129564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876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410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Photocopi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5486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nterne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400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216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exus nexu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5486400"/>
            <a:ext cx="990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62520" y="4724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819160" y="5105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1055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42640" y="5638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52578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360" y="60199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6095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1752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124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 tas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048120"/>
            <a:ext cx="1600200" cy="609480"/>
          </a:xfrm>
          <a:prstGeom prst="ellips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Gaming, social networking whil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Lack of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4114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Convenience of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059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Quality vs.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6576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Irresponsibility – ex, text while d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429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5:09Z</dcterms:created>
  <dc:creator>administrator</dc:creator>
  <dc:description/>
  <dc:language>en-US</dc:language>
  <cp:lastModifiedBy>administrator</cp:lastModifiedBy>
  <dcterms:modified xsi:type="dcterms:W3CDTF">2010-02-11T14:25:29Z</dcterms:modified>
  <cp:revision>2</cp:revision>
  <dc:subject/>
  <dc:title>Slide 1</dc:title>
</cp:coreProperties>
</file>