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1AB9-39E8-4FA1-B392-AE4467A4F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94E5-7581-4E3E-8122-3AD5A5C8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FA19-FE1C-4DD0-80DC-4FF9725DF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8F83-0C9E-4013-A211-4B2059460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D096-1EBD-444A-82CF-4A57B4861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2DDA-B601-412A-B0B3-8A350D77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7312-068E-4301-A29E-1618843F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E7F6-E567-4CC3-B7E8-06EFF2B8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552A-2FEF-4236-9800-8EBB91FA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D9E9-0925-4F24-9E1D-CB82CB42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D066-47B4-43C0-9973-61435F60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1082-973D-4452-B1F7-70A6AB7B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6593-8149-42D3-9CC6-AC83CB09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DA7F-944F-422B-8B03-C2223B78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D8F6-9FFF-4909-9CE8-1ADEEBB3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2F5E-0F8E-4AE9-906C-8120F1497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46DF-5243-4E63-A136-4AEA669E6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19C6-C039-4693-A789-8F6F724F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1C01-464B-44B5-8F9B-1FD44806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ECCB-A169-43FD-A71C-938614AD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3080-D7FD-4C04-8CEB-369B2417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9C1D-0C13-415D-B30B-8BE0CE5E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9B3E-FFD2-48A3-82A2-05F036D6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4513-B15D-4380-966B-5E18AFDE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A302-197F-47F8-98D2-D96537970F3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513A-8A0E-476A-98B4-EC9B7017A8B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676160" cy="7617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3352680" y="3429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Kids To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28600" y="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rie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04920" y="990720"/>
            <a:ext cx="2514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ess pers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Many acquaintan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ess accep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3733920" y="457200"/>
            <a:ext cx="1695240" cy="137304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3657600" y="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Home Lif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733920" y="1828800"/>
            <a:ext cx="20574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mewor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mputer ti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Babysit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amily ti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3581280" y="3809880"/>
            <a:ext cx="1595520" cy="106848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4"/>
          <a:stretch/>
        </p:blipFill>
        <p:spPr>
          <a:xfrm>
            <a:off x="7391520" y="609480"/>
            <a:ext cx="1163520" cy="117180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7315200" y="152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i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781680" y="1676520"/>
            <a:ext cx="27432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ack of nutritional      knowled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nveni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5"/>
          <a:stretch/>
        </p:blipFill>
        <p:spPr>
          <a:xfrm>
            <a:off x="7315200" y="3276720"/>
            <a:ext cx="1384200" cy="16477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7315200" y="2895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867280" y="358128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az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Entitle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6"/>
          <a:stretch/>
        </p:blipFill>
        <p:spPr>
          <a:xfrm>
            <a:off x="7315200" y="5562720"/>
            <a:ext cx="1219320" cy="95724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7238880" y="5257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410080" y="5181480"/>
            <a:ext cx="2210040" cy="19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Video gam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mput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V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Organized s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Outdoor pla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7"/>
          <a:stretch/>
        </p:blipFill>
        <p:spPr>
          <a:xfrm>
            <a:off x="3352680" y="5562720"/>
            <a:ext cx="1524240" cy="98568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3352680" y="6553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ch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990720" y="5595840"/>
            <a:ext cx="26668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ch Savv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ch Depend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ack of responsibil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path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8"/>
          <a:stretch/>
        </p:blipFill>
        <p:spPr>
          <a:xfrm>
            <a:off x="152280" y="4114800"/>
            <a:ext cx="1105200" cy="1206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0" y="3733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ommun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95280" y="4114800"/>
            <a:ext cx="18288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Ema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ocial network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2133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por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9"/>
          <a:stretch/>
        </p:blipFill>
        <p:spPr>
          <a:xfrm>
            <a:off x="0" y="2590920"/>
            <a:ext cx="1219320" cy="103968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1447920" y="2057400"/>
            <a:ext cx="16002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nthusias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ack of appreciation for the basic ski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Need for leadershi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verybody w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352680" y="0"/>
            <a:ext cx="2286000" cy="3124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781680" y="0"/>
            <a:ext cx="1981440" cy="251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943600" y="2971800"/>
            <a:ext cx="3200400" cy="2133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410080" y="5181480"/>
            <a:ext cx="3276720" cy="1676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990720" y="5486400"/>
            <a:ext cx="3962160" cy="1371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3733920"/>
            <a:ext cx="2971800" cy="160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1981080"/>
            <a:ext cx="2971800" cy="1676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0"/>
            <a:ext cx="2362320" cy="1905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352680" y="3276720"/>
            <a:ext cx="1981440" cy="175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4419720" y="3124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410080" y="2133720"/>
            <a:ext cx="137160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34120" y="41911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334120" y="4876920"/>
            <a:ext cx="30456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267080" y="50292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 flipV="1">
            <a:off x="2971800" y="3047760"/>
            <a:ext cx="38088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895480" y="43434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2361960" y="914400"/>
            <a:ext cx="1143000" cy="236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3:57:06Z</dcterms:created>
  <dc:creator>administrator</dc:creator>
  <dc:description/>
  <dc:language>en-US</dc:language>
  <cp:lastModifiedBy>administrator</cp:lastModifiedBy>
  <dcterms:modified xsi:type="dcterms:W3CDTF">2010-02-09T13:43:33Z</dcterms:modified>
  <cp:revision>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