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CC2-8D63-42AD-A74A-E95C04A9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4F7D-E9C2-4636-A99B-E308962E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7BC-6309-4620-83EE-B77B942C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867-3F95-4391-AF10-E188DB23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D561-1F5B-4555-B0FA-D22E178A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E39D-E49E-4017-BD4F-0D2B70F9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77E2-379C-405C-AC6A-93DBE4A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67E1-B193-47A3-B998-8CAC9470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2BF2-C5C2-4CBC-8955-8B45193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ABAC-B7DE-406E-A205-08009113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A382-60E2-4F14-ADCB-3F98106C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88F-9DBF-4410-95E6-18758F28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F657-32AB-4CFF-A7A3-D407585D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6FC7-A739-4C57-BB16-BDADA16D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266B-844D-43E0-B57A-89C5239C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D4AA-6BC0-4397-814F-821CC4DB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6648-C1C8-4809-9B41-19383D90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722E-E967-4AC4-BB48-563D833E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25C-5057-4729-90C2-752E50E4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4FC-D46B-42D3-9388-6F13340B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7B9-5579-43CC-9FBA-F572E01B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2EB-35DA-47E9-AD04-506B4309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837-6258-431B-8A59-9F67D190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CA2-D2E7-4361-ACE4-4C18E92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F3F8-1F22-4604-9598-812C16B323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413E-8FFA-4DBA-9393-812A2BA75DF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76160" cy="761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id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ny acquain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acce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1695240" cy="1373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abysit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1595520" cy="1068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391520" y="609480"/>
            <a:ext cx="1163520" cy="1171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315200" y="152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81680" y="167652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7315200" y="3276720"/>
            <a:ext cx="1384200" cy="1647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3152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58128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z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tit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7315200" y="5562720"/>
            <a:ext cx="1219320" cy="957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3352680" y="5562720"/>
            <a:ext cx="1524240" cy="985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5595840"/>
            <a:ext cx="2666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Savv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responsi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8"/>
          <a:stretch/>
        </p:blipFill>
        <p:spPr>
          <a:xfrm>
            <a:off x="152280" y="4114800"/>
            <a:ext cx="1105200" cy="1206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4114800"/>
            <a:ext cx="1828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0" y="2590920"/>
            <a:ext cx="1219320" cy="10396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447920" y="2057400"/>
            <a:ext cx="1600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thusi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ck of appreciation for the basic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for lead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verybody w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43600" y="2971800"/>
            <a:ext cx="320040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administrator</cp:lastModifiedBy>
  <dcterms:modified xsi:type="dcterms:W3CDTF">2010-02-09T13:43:3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