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EF2-E6EB-4054-ABCE-04DD6679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B22-4BA2-448C-9BF9-7CB73704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C55-2D1D-4BFA-9295-DCDE5BBA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3AF-5641-41C0-94FD-573FC7D9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B3F5-4256-49BD-B47C-72CD1764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5C79-2597-4B27-B10E-CBBF5363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44E4-8732-43AF-8394-80DE2254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669E-4DA9-4369-8A68-16C9ABFA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4070-B249-40A1-B900-CF766C5F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2763-3A6B-433E-93CA-3568CDB5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41D8-A14A-4050-B70A-2ED14463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914-36D7-4876-BAB4-4E1DE222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765C-F7EF-47B9-903F-53BDEF86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86F1-E736-4173-8F76-78C5F2F0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D387-BCA3-42B6-B676-2BA6BDA2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56F7-C0B6-460E-8617-D353F11A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2A15-61D0-479C-A673-0702D66F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965-B912-4E76-902C-DE0DB32F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410-E5BB-4AAB-A22A-24EABF03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734-D822-4612-8DC4-D02F4FC7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9A7-6A93-4BB3-8B55-5B5D648C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371D-7B47-4C4A-8071-F79082C8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E96-4F46-4D5B-9C67-87D87CE4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2A8-6DFC-4397-A0F8-424F79CB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2A68-2A4A-4C1E-98DC-58F7A5C564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F2D5-5DDD-499F-B91B-C6220B1D9CC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676160" cy="7617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352680" y="3429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id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99072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ss 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ny acquaintan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ess accep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3733920" y="457200"/>
            <a:ext cx="1695240" cy="13730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3657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me Li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33920" y="1828800"/>
            <a:ext cx="2057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me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abysit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mily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581280" y="3809880"/>
            <a:ext cx="1595520" cy="10684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7391520" y="609480"/>
            <a:ext cx="1163520" cy="1171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315200" y="152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81680" y="1676520"/>
            <a:ext cx="27432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nutritional      knowled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veni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5"/>
          <a:stretch/>
        </p:blipFill>
        <p:spPr>
          <a:xfrm>
            <a:off x="7315200" y="3276720"/>
            <a:ext cx="1384200" cy="16477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731520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358128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z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titl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6"/>
          <a:stretch/>
        </p:blipFill>
        <p:spPr>
          <a:xfrm>
            <a:off x="7315200" y="5562720"/>
            <a:ext cx="1219320" cy="9572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7238880" y="525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10080" y="5181480"/>
            <a:ext cx="22100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deo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mput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rganized s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3352680" y="5562720"/>
            <a:ext cx="1524240" cy="9856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352680" y="6553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90720" y="5595840"/>
            <a:ext cx="2666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Savv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ch Depend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ack of responsibil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path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8"/>
          <a:stretch/>
        </p:blipFill>
        <p:spPr>
          <a:xfrm>
            <a:off x="152280" y="4114800"/>
            <a:ext cx="1105200" cy="1206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4114800"/>
            <a:ext cx="1828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ocial net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0" y="2590920"/>
            <a:ext cx="1219320" cy="10396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447920" y="2057400"/>
            <a:ext cx="1600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nthusias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ack of appreciation for the basic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Need for lead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verybody w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0"/>
            <a:ext cx="2286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81680" y="0"/>
            <a:ext cx="198144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943600" y="2971800"/>
            <a:ext cx="320040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5181480"/>
            <a:ext cx="327672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5486400"/>
            <a:ext cx="3962160" cy="1371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352680" y="3276720"/>
            <a:ext cx="198144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419720" y="3124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10080" y="2133720"/>
            <a:ext cx="137160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41911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334120" y="4876920"/>
            <a:ext cx="3045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50292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895480" y="4343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administrator</cp:lastModifiedBy>
  <dcterms:modified xsi:type="dcterms:W3CDTF">2010-02-09T13:43:33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