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89ED-3FD8-4934-A552-5A4970E0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DCFF-EBD2-4CEC-A008-0779397A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08B3-D4C2-402B-9904-9C659D513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B35A-7D20-437B-8D6D-97F86AADB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78D6-0258-47D2-9FB3-0EC7751C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DDA5-0209-4EF0-8F22-507E78DF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3718-FE23-4DA0-AC3D-3427FC26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66FD-26D8-49AD-884B-216FE846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0351-D64E-4039-AA3C-D80CA7B4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59E1-09ED-4CB7-B71A-34170D1C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F652-EB8D-4850-8742-7E6F1E41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F403-9C01-4F1F-B86B-DD5C0A59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E356-6A84-494C-9C58-2D84A1907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24080" y="2971800"/>
            <a:ext cx="2667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Kids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16765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Immersed in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2743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828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</a:rPr>
              <a:t>Cell ph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04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</a:rPr>
              <a:t>Digital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0"/>
            <a:ext cx="1752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You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M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Photo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1120" y="685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</a:rPr>
              <a:t>“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</a:rPr>
              <a:t>expected”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2057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Plugg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9341000">
            <a:off x="5791680" y="1294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cc33"/>
                </a:solidFill>
                <a:uFillTx/>
                <a:latin typeface="Arial"/>
              </a:rPr>
              <a:t>ip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0293800">
            <a:off x="6781680" y="1219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cc33"/>
                </a:solidFill>
                <a:uFillTx/>
                <a:latin typeface="Arial"/>
              </a:rPr>
              <a:t>Cell ph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1520" y="2057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cc33"/>
                </a:solidFill>
                <a:uFillTx/>
                <a:latin typeface="Arial"/>
              </a:rPr>
              <a:t>Handheld g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86600" y="2743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cc33"/>
                </a:solidFill>
                <a:uFillTx/>
                <a:latin typeface="Arial"/>
              </a:rPr>
              <a:t>Can help or hinder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36576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Digital Lear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4419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netwo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37339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800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Web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4800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tex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0" y="472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Music share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62720" y="48006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listse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2819520"/>
            <a:ext cx="1447560" cy="68580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1523880"/>
            <a:ext cx="1904760" cy="990720"/>
          </a:xfrm>
          <a:prstGeom prst="ellipse">
            <a:avLst/>
          </a:prstGeom>
          <a:noFill/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228600"/>
            <a:ext cx="1523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0"/>
            <a:ext cx="16002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533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1295280" y="7621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21896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990720" y="24382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124080" y="236232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200400" y="121896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1905120"/>
            <a:ext cx="1447920" cy="609480"/>
          </a:xfrm>
          <a:prstGeom prst="ellipse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91520" y="2057400"/>
            <a:ext cx="12189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105520" y="2437920"/>
            <a:ext cx="7617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248520" y="1676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858000" y="19047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86600" y="22096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34320" y="23623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86600" y="2819520"/>
            <a:ext cx="1676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00100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5812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4419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4800600"/>
            <a:ext cx="1066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5334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Social netwo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5257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Wi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5257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Virtual wor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5410080"/>
            <a:ext cx="12189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6095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Peer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6172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Broadcasting one’s 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6248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False conf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6095880"/>
            <a:ext cx="1066680" cy="6098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57400" y="6172200"/>
            <a:ext cx="1371600" cy="5335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6248520"/>
            <a:ext cx="1295640" cy="609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4876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5410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Photocopier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38880" y="54864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Internet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6400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96080" y="62164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Lexus nexu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15200" y="5486400"/>
            <a:ext cx="9907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24280" y="4343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962520" y="47242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819160" y="51055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5105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510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51055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142640" y="56386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6324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6553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44956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52578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705360" y="60199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60958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4419720"/>
            <a:ext cx="17528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31240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Multi tas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3048120"/>
            <a:ext cx="1600200" cy="609480"/>
          </a:xfrm>
          <a:prstGeom prst="ellipse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657600"/>
            <a:ext cx="152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Gaming, social networking while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5410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Lack of absor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001000" y="41148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Convenience of inf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830592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990720" y="3505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3886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Quality vs.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3657600"/>
            <a:ext cx="14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Irresponsibility – ex, text while dr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34290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4:05:09Z</dcterms:created>
  <dc:creator>administrator</dc:creator>
  <dc:description/>
  <dc:language>en-US</dc:language>
  <cp:lastModifiedBy>administrator</cp:lastModifiedBy>
  <dcterms:modified xsi:type="dcterms:W3CDTF">2010-02-11T14:25:29Z</dcterms:modified>
  <cp:revision>2</cp:revision>
  <dc:subject/>
  <dc:title>Slide 1</dc:title>
</cp:coreProperties>
</file>