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97E0-ECBC-478D-A119-A95728A2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48F5-C835-48AD-AE20-7FA2947D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C831-6DE4-4924-9655-FD2EE786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2530-6299-4B20-A014-B75C5647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E826-5147-4FF1-917E-029F81EE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63C5-7725-420A-86D5-6B6E8FA7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C85D-AE26-42B3-A773-EFC3A96B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F7A4-5095-498D-A447-406F6CD7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B5BD-7B41-49A6-A488-4DDBBBE9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9C7D-EA4E-4941-9F62-34DC113A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FAFF-AD08-4B5E-B941-D693E9F9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8E00-00C0-4F11-8DEE-65245521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264F-2E27-4258-BAE1-3F65C4502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2971800"/>
            <a:ext cx="2667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Kid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16765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Immersed in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2743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82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Cell ph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04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Digital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0"/>
            <a:ext cx="1752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You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Photo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685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“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expected”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2057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Plugg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9341000">
            <a:off x="5791680" y="1294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cc33"/>
                </a:solidFill>
                <a:uFillTx/>
                <a:latin typeface="Arial"/>
              </a:rPr>
              <a:t>ip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293800">
            <a:off x="6781680" y="1219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cc33"/>
                </a:solidFill>
                <a:uFillTx/>
                <a:latin typeface="Arial"/>
              </a:rPr>
              <a:t>Cell ph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205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cc33"/>
                </a:solidFill>
                <a:uFillTx/>
                <a:latin typeface="Arial"/>
              </a:rPr>
              <a:t>Handheld 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2743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cc33"/>
                </a:solidFill>
                <a:uFillTx/>
                <a:latin typeface="Arial"/>
              </a:rPr>
              <a:t>Can help or hinder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36576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Digital Lear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4419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37339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Web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800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tex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47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Music share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48006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lists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2819520"/>
            <a:ext cx="1447560" cy="68580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1523880"/>
            <a:ext cx="1904760" cy="990720"/>
          </a:xfrm>
          <a:prstGeom prst="ellipse">
            <a:avLst/>
          </a:prstGeom>
          <a:noFill/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28600"/>
            <a:ext cx="1523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0"/>
            <a:ext cx="16002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533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1295280" y="7621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21896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990720" y="24382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124080" y="236232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200400" y="121896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1905120"/>
            <a:ext cx="1447920" cy="609480"/>
          </a:xfrm>
          <a:prstGeom prst="ellipse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91520" y="2057400"/>
            <a:ext cx="12189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105520" y="2437920"/>
            <a:ext cx="7617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248520" y="1676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858000" y="19047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2209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2362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2819520"/>
            <a:ext cx="1676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0010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5812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4419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4800600"/>
            <a:ext cx="1066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5334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Social 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5257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5257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Virtual 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5410080"/>
            <a:ext cx="1218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6095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Peer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6172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Broadcasting one’s 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6248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False conf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6095880"/>
            <a:ext cx="1066680" cy="6098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6172200"/>
            <a:ext cx="1371600" cy="5335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6248520"/>
            <a:ext cx="1295640" cy="609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4876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5410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Photocopie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5486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Internet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6400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6216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Lexus nexu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5486400"/>
            <a:ext cx="9907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962520" y="47242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819160" y="51055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51055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142640" y="56386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44956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52578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705360" y="60199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6095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4419720"/>
            <a:ext cx="17528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124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Multi tas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048120"/>
            <a:ext cx="1600200" cy="609480"/>
          </a:xfrm>
          <a:prstGeom prst="ellipse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65760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Gaming, social networking whil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410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Lack of absor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01000" y="41148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Convenience of in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83059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990720" y="3505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Quality vs.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365760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Irresponsibility – ex, text while d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3429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05:09Z</dcterms:created>
  <dc:creator>administrator</dc:creator>
  <dc:description/>
  <dc:language>en-US</dc:language>
  <cp:lastModifiedBy>administrator</cp:lastModifiedBy>
  <dcterms:modified xsi:type="dcterms:W3CDTF">2010-02-11T14:25:29Z</dcterms:modified>
  <cp:revision>2</cp:revision>
  <dc:subject/>
  <dc:title>Slide 1</dc:title>
</cp:coreProperties>
</file>