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CA1-703E-4C37-8829-BABDB1FF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53D-0D33-4997-99D0-FC0BB485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632-ACEF-4C19-8990-3EA6AE1B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AB1-31AC-447C-A6FB-8698EA91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A6A-3737-4454-9E84-123EC67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DB2-484F-4F18-A44B-054DEA2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8E2-DA2D-4A93-9066-A1057EB3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3ED-3B3A-40D7-9CC4-32F5944F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0DC-E332-498B-9114-078E67A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0EE-2F01-41EB-8336-9804D88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AA9-19C1-4D78-B0D6-2FB8776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52A-DAF7-4866-A7F6-9A6159F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A15-5FB7-4A26-ADFD-8F353158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9718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mersed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Digit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hoto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“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expected”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lug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341000">
            <a:off x="5791680" y="1294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93800">
            <a:off x="6781680" y="1219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Handhel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an help or hin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Digital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733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tex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Music sha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800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ist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19520"/>
            <a:ext cx="1447560" cy="6858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523880"/>
            <a:ext cx="1904760" cy="99072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0"/>
            <a:ext cx="1600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295280" y="7621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189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90720" y="2438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124080" y="23623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1218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905120"/>
            <a:ext cx="1447920" cy="6094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057400"/>
            <a:ext cx="1218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2437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209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2362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5812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419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8006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ee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17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roadcasting one’s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False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095880"/>
            <a:ext cx="10666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172200"/>
            <a:ext cx="1371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129564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4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Photocop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ntern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exus nexu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548640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520" y="4724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81916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60199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5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 tas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048120"/>
            <a:ext cx="1600200" cy="60948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ing, social networking whil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ack of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onvenience of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Quality vs.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657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rresponsibility – ex, text while d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5:09Z</dcterms:created>
  <dc:creator>administrator</dc:creator>
  <dc:description/>
  <dc:language>en-US</dc:language>
  <cp:lastModifiedBy>administrator</cp:lastModifiedBy>
  <dcterms:modified xsi:type="dcterms:W3CDTF">2010-02-11T14:25:29Z</dcterms:modified>
  <cp:revision>2</cp:revision>
  <dc:subject/>
  <dc:title>Slide 1</dc:title>
</cp:coreProperties>
</file>