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A67-F230-4C16-B9DC-06193D81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264-8598-4E1D-93DF-68EED453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57D-253A-49E9-9356-EC0EE60C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9F47-B65A-4523-B62B-06F51EB6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5F5-12AB-448A-B8A1-2FCCBFF6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36A8-6FC4-47B9-B711-BEE836BA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418-C1A0-4438-BA44-8DF8DBD1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7EDB-6940-43AB-A0AB-8BC9C781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63E-7B90-4C1D-B515-C9C82221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AAE-9FC3-4898-A56F-B64BCDB2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ED5-A020-4DA8-9AEB-95D4C4A4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FFB-60EB-4827-B73F-99DC7F7B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3894-1FCB-4E3D-AF27-931F50D91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2971800"/>
            <a:ext cx="2667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Kid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6765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Immersed i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2743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28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04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Digital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You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Photo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685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“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</a:rPr>
              <a:t>expected”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2057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lugg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341000">
            <a:off x="5791680" y="1294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ip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293800">
            <a:off x="6781680" y="1219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Handheld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2743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cc33"/>
                </a:solidFill>
                <a:uFillTx/>
                <a:latin typeface="Arial"/>
              </a:rPr>
              <a:t>Can help or hinder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657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Digital Lea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4419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37339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Web 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8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tex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47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Music share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62720" y="48006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lists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819520"/>
            <a:ext cx="1447560" cy="68580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1523880"/>
            <a:ext cx="1904760" cy="990720"/>
          </a:xfrm>
          <a:prstGeom prst="ellipse">
            <a:avLst/>
          </a:prstGeom>
          <a:noFill/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228600"/>
            <a:ext cx="1523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0"/>
            <a:ext cx="1600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33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295280" y="762120"/>
            <a:ext cx="6098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21896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990720" y="2438280"/>
            <a:ext cx="8380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124080" y="236232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200400" y="121896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1905120"/>
            <a:ext cx="1447920" cy="609480"/>
          </a:xfrm>
          <a:prstGeom prst="ellipse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91520" y="2057400"/>
            <a:ext cx="12189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105520" y="24379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248520" y="1676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85800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22096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2362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2819520"/>
            <a:ext cx="16765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5812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4419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480060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5334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Social netwo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5257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5257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Virtual 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10080"/>
            <a:ext cx="12189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6095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Peer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6172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Broadcasting one’s 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6248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False conf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6095880"/>
            <a:ext cx="1066680" cy="609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6172200"/>
            <a:ext cx="1371600" cy="5335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6248520"/>
            <a:ext cx="1295640" cy="60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4876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410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Photocopi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5486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Internet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6400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goo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6216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Lexus nexu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15200" y="5486400"/>
            <a:ext cx="9907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962520" y="47242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819160" y="51055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51055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42640" y="56386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44956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52578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05360" y="60199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6095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419720"/>
            <a:ext cx="1752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124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Multi tas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048120"/>
            <a:ext cx="1600200" cy="609480"/>
          </a:xfrm>
          <a:prstGeom prst="ellipse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152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Gaming, social networking whil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410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Lack of 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001000" y="4114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cc"/>
                </a:solidFill>
                <a:uFillTx/>
                <a:latin typeface="Arial"/>
              </a:rPr>
              <a:t>Convenience of 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3059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3505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3886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Quality vs. 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365760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Irresponsibility – ex, text while d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34290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4:05:09Z</dcterms:created>
  <dc:creator>administrator</dc:creator>
  <dc:description/>
  <dc:language>en-US</dc:language>
  <cp:lastModifiedBy>administrator</cp:lastModifiedBy>
  <dcterms:modified xsi:type="dcterms:W3CDTF">2010-02-11T14:25:29Z</dcterms:modified>
  <cp:revision>2</cp:revision>
  <dc:subject/>
  <dc:title>Slide 1</dc:title>
</cp:coreProperties>
</file>