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1DB-32CE-4F68-ACB3-8E5C3506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CEE-B2C5-4CAB-94BE-906EA525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D02-6B65-433A-8625-52FD8BAA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F34-A33C-47AD-9902-46C5B09B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CDF-517D-4C29-8C6C-0849E6B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DC9-A830-4F99-883D-276E7F0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1C5-41E9-4BC3-B9C0-5B1B5B66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E6F-9809-4F8D-BB89-C48CFE77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53B-4B4D-4D94-8FAC-13D78900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3B7-36C0-4393-965D-66003FA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D07-C12B-487B-88E3-6F7317F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DEF-6DCF-4DBD-8577-B46EAB3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D7344-078B-4F6B-B8FA-7D44583C7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457200"/>
            <a:ext cx="6400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Gallery Walk - “Blossoming Bu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00200"/>
            <a:ext cx="4343400" cy="4572000"/>
          </a:xfrm>
          <a:custGeom>
            <a:avLst/>
            <a:gdLst>
              <a:gd name="textAreaLeft" fmla="*/ 360 w 4343400"/>
              <a:gd name="textAreaRight" fmla="*/ 4343040 w 43434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2737">
                <a:moveTo>
                  <a:pt x="7" y="0"/>
                </a:moveTo>
                <a:arcTo wR="7" hR="7" stAng="16200000" swAng="-5400000"/>
                <a:lnTo>
                  <a:pt x="0" y="22730"/>
                </a:lnTo>
                <a:arcTo wR="7" hR="7" stAng="10800000" swAng="-5400000"/>
                <a:lnTo>
                  <a:pt x="21593" y="2273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reflect on the read alou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The Tiny See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y Eric Carle and will sh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own feelings about first coming to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their feelings about the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 the seed. The students and teac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down the students' thoughts and feel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he students provide related illustration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600200"/>
            <a:ext cx="4114800" cy="4572000"/>
          </a:xfrm>
          <a:custGeom>
            <a:avLst/>
            <a:gdLst>
              <a:gd name="textAreaLeft" fmla="*/ 360 w 4114800"/>
              <a:gd name="textAreaRight" fmla="*/ 4114440 w 41148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4000">
                <a:moveTo>
                  <a:pt x="8" y="0"/>
                </a:moveTo>
                <a:arcTo wR="8" hR="8" stAng="16200000" swAng="-5400000"/>
                <a:lnTo>
                  <a:pt x="0" y="23992"/>
                </a:lnTo>
                <a:arcTo wR="8" hR="8" stAng="10800000" swAng="-5400000"/>
                <a:lnTo>
                  <a:pt x="21592" y="2400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take a lo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little seed's journey and will reflect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s experience or their own experience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hool through words and illustration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ompile their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each other, teachers, and parent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657600"/>
            <a:ext cx="685800" cy="1440"/>
          </a:xfrm>
          <a:prstGeom prst="line">
            <a:avLst/>
          </a:prstGeom>
          <a:ln w="93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56:27Z</dcterms:created>
  <dc:creator>Jocelyn  Malloy</dc:creator>
  <dc:description/>
  <dc:language>en-US</dc:language>
  <cp:lastModifiedBy>Jocelyn  Malloy</cp:lastModifiedBy>
  <dcterms:modified xsi:type="dcterms:W3CDTF">2010-04-18T22:12:47Z</dcterms:modified>
  <cp:revision>2</cp:revision>
  <dc:subject/>
  <dc:title/>
</cp:coreProperties>
</file>