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ED3-3101-42AE-9943-B4C0031D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31C-6777-44EE-9A7B-033D5CF5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38F-84FE-4698-BCC7-8C39559C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B5E-2E62-46A0-AE65-0C32C4D2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A22-6B06-42E3-8062-38E6A40F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16D-093E-4D8F-9404-9922E438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D22-0A81-4CB9-AFAF-DE093607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B11-F9E8-45B2-BF7A-F69DA171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C58-30D8-40FD-97A3-6E6D8ED8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009-7447-4A90-9C70-E7C743FE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49C9-AB66-4F01-B0BD-8827EAE3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253-E621-44ED-A0E0-C291A5B7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CDB05-DAB8-420F-A6F5-B6B48FC1D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457200"/>
            <a:ext cx="6400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rtual Gallery Walk - “Blossoming Bu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600200"/>
            <a:ext cx="4343400" cy="4572000"/>
          </a:xfrm>
          <a:custGeom>
            <a:avLst/>
            <a:gdLst>
              <a:gd name="textAreaLeft" fmla="*/ 360 w 4343400"/>
              <a:gd name="textAreaRight" fmla="*/ 4343040 w 4343400"/>
              <a:gd name="textAreaTop" fmla="*/ 360 h 4572000"/>
              <a:gd name="textAreaBottom" fmla="*/ 4571640 h 4572000"/>
            </a:gdLst>
            <a:ahLst/>
            <a:rect l="textAreaLeft" t="textAreaTop" r="textAreaRight" b="textAreaBottom"/>
            <a:pathLst>
              <a:path w="21600" h="22737">
                <a:moveTo>
                  <a:pt x="7" y="0"/>
                </a:moveTo>
                <a:arcTo wR="7" hR="7" stAng="16200000" swAng="-5400000"/>
                <a:lnTo>
                  <a:pt x="0" y="22730"/>
                </a:lnTo>
                <a:arcTo wR="7" hR="7" stAng="10800000" swAng="-5400000"/>
                <a:lnTo>
                  <a:pt x="21593" y="22737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5c8526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reflect on the read alou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The Tiny See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by Eric Carle and will sh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ir own feelings about first coming to scho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 their feelings about the journ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f the seed. The students and teach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rite down the students' thoughts and feeling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the students provide related illustration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1600200"/>
            <a:ext cx="4114800" cy="4572000"/>
          </a:xfrm>
          <a:custGeom>
            <a:avLst/>
            <a:gdLst>
              <a:gd name="textAreaLeft" fmla="*/ 360 w 4114800"/>
              <a:gd name="textAreaRight" fmla="*/ 4114440 w 4114800"/>
              <a:gd name="textAreaTop" fmla="*/ 360 h 4572000"/>
              <a:gd name="textAreaBottom" fmla="*/ 4571640 h 4572000"/>
            </a:gdLst>
            <a:ahLst/>
            <a:rect l="textAreaLeft" t="textAreaTop" r="textAreaRight" b="textAreaBottom"/>
            <a:pathLst>
              <a:path w="21600" h="24000">
                <a:moveTo>
                  <a:pt x="8" y="0"/>
                </a:moveTo>
                <a:arcTo wR="8" hR="8" stAng="16200000" swAng="-5400000"/>
                <a:lnTo>
                  <a:pt x="0" y="23992"/>
                </a:lnTo>
                <a:arcTo wR="8" hR="8" stAng="10800000" swAng="-5400000"/>
                <a:lnTo>
                  <a:pt x="21592" y="24000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solidFill>
            <a:srgbClr val="5c8526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take a loo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 the little seed's journey and will reflect 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s experience or their own experience i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hool through words and illustration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compile their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share with each other, teachers, and parent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657600"/>
            <a:ext cx="685800" cy="1440"/>
          </a:xfrm>
          <a:prstGeom prst="line">
            <a:avLst/>
          </a:prstGeom>
          <a:ln w="93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1:56:27Z</dcterms:created>
  <dc:creator>Jocelyn  Malloy</dc:creator>
  <dc:description/>
  <dc:language>en-US</dc:language>
  <cp:lastModifiedBy>Jocelyn  Malloy</cp:lastModifiedBy>
  <dcterms:modified xsi:type="dcterms:W3CDTF">2010-04-18T22:12:47Z</dcterms:modified>
  <cp:revision>2</cp:revision>
  <dc:subject/>
  <dc:title/>
</cp:coreProperties>
</file>