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7EC-29D4-4F00-BD11-7FC6F13E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6AD-55AD-436C-BD9C-6C05A9C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3A2-784B-47D0-8FCA-CDAEA179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483-45C2-4A10-B73B-1F3F770C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0CEB-CD8F-4852-9071-871586B4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8B8-39A6-4D11-AA4F-314BED8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1A9-1D08-43EB-96BC-AF990772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A1C-4A60-4228-8E74-945AE063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8AA-1992-4785-BF8E-7FD0F328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414-02BB-4F5D-85E1-63C0D0C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4A1-5B85-4BC5-A411-CC50419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5EE-6516-40D9-ADCE-B457DAEB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1F609-380C-4BEC-9A95-6CBA10CE53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457200"/>
            <a:ext cx="640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Gallery Walk - “Blossoming Bu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00200"/>
            <a:ext cx="4343400" cy="4572000"/>
          </a:xfrm>
          <a:custGeom>
            <a:avLst/>
            <a:gdLst>
              <a:gd name="textAreaLeft" fmla="*/ 360 w 4343400"/>
              <a:gd name="textAreaRight" fmla="*/ 4343040 w 43434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2737">
                <a:moveTo>
                  <a:pt x="7" y="0"/>
                </a:moveTo>
                <a:arcTo wR="7" hR="7" stAng="16200000" swAng="-5400000"/>
                <a:lnTo>
                  <a:pt x="0" y="22730"/>
                </a:lnTo>
                <a:arcTo wR="7" hR="7" stAng="10800000" swAng="-5400000"/>
                <a:lnTo>
                  <a:pt x="21593" y="2273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reflect on the read alou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The Tiny See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y Eric Carle and will sh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own feelings about first coming to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their feelings about the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seed. The students and teac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down the students' thoughts and feel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he students provide related illustration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600200"/>
            <a:ext cx="4114800" cy="457200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4000">
                <a:moveTo>
                  <a:pt x="8" y="0"/>
                </a:moveTo>
                <a:arcTo wR="8" hR="8" stAng="16200000" swAng="-5400000"/>
                <a:lnTo>
                  <a:pt x="0" y="23992"/>
                </a:lnTo>
                <a:arcTo wR="8" hR="8" stAng="10800000" swAng="-5400000"/>
                <a:lnTo>
                  <a:pt x="21592" y="240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take a l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little seed's journey and will reflect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s experience or their own experience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 through words and illustration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ompile their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each other, teachers, and parent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657600"/>
            <a:ext cx="685800" cy="144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56:27Z</dcterms:created>
  <dc:creator>Jocelyn  Malloy</dc:creator>
  <dc:description/>
  <dc:language>en-US</dc:language>
  <cp:lastModifiedBy>Jocelyn  Malloy</cp:lastModifiedBy>
  <dcterms:modified xsi:type="dcterms:W3CDTF">2010-04-18T22:12:47Z</dcterms:modified>
  <cp:revision>2</cp:revision>
  <dc:subject/>
  <dc:title/>
</cp:coreProperties>
</file>