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5F1-87EC-4541-8E17-EAD452BE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1C6-EADC-434A-AFD4-F0190DA7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5B3-6647-4F42-BE54-0722C34D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3D9-3167-470A-A6D3-6CB6ACF8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301-DE14-46AC-A446-3FDE86C4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ACB-2750-4D2D-BE33-EAFF8743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E99-67CE-4B9C-98F4-8548F8B2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665-B230-454A-AE54-40CC6E6F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465-224D-4B39-B3C2-CAD9528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B26-E1AD-495B-A808-396CB6C0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83B-207F-4C44-8E6E-C2747DB0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D47-F862-444E-AF7F-6DA5AA33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BCCBF-967A-4CDF-9D81-EA992B56D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457200"/>
            <a:ext cx="6400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Gallery Walk - “Blossoming Bu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00200"/>
            <a:ext cx="4343400" cy="4572000"/>
          </a:xfrm>
          <a:custGeom>
            <a:avLst/>
            <a:gdLst>
              <a:gd name="textAreaLeft" fmla="*/ 360 w 4343400"/>
              <a:gd name="textAreaRight" fmla="*/ 4343040 w 43434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2737">
                <a:moveTo>
                  <a:pt x="7" y="0"/>
                </a:moveTo>
                <a:arcTo wR="7" hR="7" stAng="16200000" swAng="-5400000"/>
                <a:lnTo>
                  <a:pt x="0" y="22730"/>
                </a:lnTo>
                <a:arcTo wR="7" hR="7" stAng="10800000" swAng="-5400000"/>
                <a:lnTo>
                  <a:pt x="21593" y="22737"/>
                </a:lnTo>
                <a:arcTo wR="7" hR="7" stAng="5400000" swAng="-5400000"/>
                <a:lnTo>
                  <a:pt x="21600" y="7"/>
                </a:lnTo>
                <a:arcTo wR="7" hR="7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reflect on the read alou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The Tiny Seed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by Eric Carle and will sh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own feelings about first coming to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 their feelings about the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f the seed. The students and teach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rite down the students' thoughts and feeling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the students provide related illustration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600200"/>
            <a:ext cx="4114800" cy="4572000"/>
          </a:xfrm>
          <a:custGeom>
            <a:avLst/>
            <a:gdLst>
              <a:gd name="textAreaLeft" fmla="*/ 360 w 4114800"/>
              <a:gd name="textAreaRight" fmla="*/ 4114440 w 4114800"/>
              <a:gd name="textAreaTop" fmla="*/ 360 h 4572000"/>
              <a:gd name="textAreaBottom" fmla="*/ 4571640 h 4572000"/>
            </a:gdLst>
            <a:ahLst/>
            <a:rect l="textAreaLeft" t="textAreaTop" r="textAreaRight" b="textAreaBottom"/>
            <a:pathLst>
              <a:path w="21600" h="24000">
                <a:moveTo>
                  <a:pt x="8" y="0"/>
                </a:moveTo>
                <a:arcTo wR="8" hR="8" stAng="16200000" swAng="-5400000"/>
                <a:lnTo>
                  <a:pt x="0" y="23992"/>
                </a:lnTo>
                <a:arcTo wR="8" hR="8" stAng="10800000" swAng="-5400000"/>
                <a:lnTo>
                  <a:pt x="21592" y="24000"/>
                </a:lnTo>
                <a:arcTo wR="8" hR="8" stAng="5400000" swAng="-5400000"/>
                <a:lnTo>
                  <a:pt x="21600" y="8"/>
                </a:lnTo>
                <a:arcTo wR="8" hR="8" stAng="0" swAng="-5400000"/>
                <a:close/>
              </a:path>
            </a:pathLst>
          </a:custGeom>
          <a:solidFill>
            <a:srgbClr val="5c8526"/>
          </a:solidFill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take a loo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 the little seed's journey and will reflect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ts experience or their own experience i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chool through words and illustration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ompile their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each other, teachers, and parents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657600"/>
            <a:ext cx="685800" cy="1440"/>
          </a:xfrm>
          <a:prstGeom prst="line">
            <a:avLst/>
          </a:prstGeom>
          <a:ln w="936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21:56:27Z</dcterms:created>
  <dc:creator>Jocelyn  Malloy</dc:creator>
  <dc:description/>
  <dc:language>en-US</dc:language>
  <cp:lastModifiedBy>Jocelyn  Malloy</cp:lastModifiedBy>
  <dcterms:modified xsi:type="dcterms:W3CDTF">2010-04-18T22:12:47Z</dcterms:modified>
  <cp:revision>2</cp:revision>
  <dc:subject/>
  <dc:title/>
</cp:coreProperties>
</file>