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E72-68C3-4F8E-9FF7-AED59F27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5C5-6669-480F-BA96-8BA3A568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0BB-8095-42DC-B61A-5405658D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3A5-518B-45E6-8217-BE9DB683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3E7-D6A2-42EF-980D-CDDC9A9A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2C7-B3AD-45EB-B5C5-6F4905EA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D7B-6699-4F38-BB71-7A7008E7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008-A2BC-4CF7-87BB-DAF71581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D90-C99E-4E4F-BD23-D5F25B3C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3CE-0B41-4048-9567-CCAB7CF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42B-13D1-415C-96A4-EFF9CFC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A48-6BCD-422D-9692-BA195774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D447F-A56F-4762-AC8A-4F164405B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457200"/>
            <a:ext cx="6400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Gallery Walk - “Blossoming Bu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00200"/>
            <a:ext cx="4343400" cy="4572000"/>
          </a:xfrm>
          <a:custGeom>
            <a:avLst/>
            <a:gdLst>
              <a:gd name="textAreaLeft" fmla="*/ 360 w 4343400"/>
              <a:gd name="textAreaRight" fmla="*/ 4343040 w 43434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2737">
                <a:moveTo>
                  <a:pt x="7" y="0"/>
                </a:moveTo>
                <a:arcTo wR="7" hR="7" stAng="16200000" swAng="-5400000"/>
                <a:lnTo>
                  <a:pt x="0" y="22730"/>
                </a:lnTo>
                <a:arcTo wR="7" hR="7" stAng="10800000" swAng="-5400000"/>
                <a:lnTo>
                  <a:pt x="21593" y="2273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reflect on the read alou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The Tiny See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by Eric Carle and will sh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own feelings about first coming to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 their feelings about the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 the seed. The students and teach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down the students' thoughts and feeling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the students provide related illustration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600200"/>
            <a:ext cx="4114800" cy="4572000"/>
          </a:xfrm>
          <a:custGeom>
            <a:avLst/>
            <a:gdLst>
              <a:gd name="textAreaLeft" fmla="*/ 360 w 4114800"/>
              <a:gd name="textAreaRight" fmla="*/ 4114440 w 41148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4000">
                <a:moveTo>
                  <a:pt x="8" y="0"/>
                </a:moveTo>
                <a:arcTo wR="8" hR="8" stAng="16200000" swAng="-5400000"/>
                <a:lnTo>
                  <a:pt x="0" y="23992"/>
                </a:lnTo>
                <a:arcTo wR="8" hR="8" stAng="10800000" swAng="-5400000"/>
                <a:lnTo>
                  <a:pt x="21592" y="24000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take a lo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e little seed's journey and will reflect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s experience or their own experience i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hool through words and illustration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ompile their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each other, teachers, and parent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657600"/>
            <a:ext cx="685800" cy="1440"/>
          </a:xfrm>
          <a:prstGeom prst="line">
            <a:avLst/>
          </a:prstGeom>
          <a:ln w="93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1:56:27Z</dcterms:created>
  <dc:creator>Jocelyn  Malloy</dc:creator>
  <dc:description/>
  <dc:language>en-US</dc:language>
  <cp:lastModifiedBy>Jocelyn  Malloy</cp:lastModifiedBy>
  <dcterms:modified xsi:type="dcterms:W3CDTF">2010-04-18T22:12:47Z</dcterms:modified>
  <cp:revision>2</cp:revision>
  <dc:subject/>
  <dc:title/>
</cp:coreProperties>
</file>