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74C-79F9-4B0B-B80B-EAAC6920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3CE-99D3-46F1-BB53-B7B660CB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536-B499-4B1C-98D2-DC83EF83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BBF-ED01-4148-84E3-4789BF1C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7E36-78EB-4105-882A-E80FE7B5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0F0F-140A-4748-94D2-18726EBD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6A79-FC5D-4767-A617-33533B94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A4BA-701E-4EDD-8A9E-F338AA8F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295C-0C53-4AF0-B106-99BEB7BC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9A1C-F58F-4037-B63D-F5B12B22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1B7F-D10D-4520-B5DC-26D00567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9E7-5680-408D-8ED8-16CEB49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1ED-9340-4A41-B401-10809089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A47-958A-4462-8488-22D2B23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E591-86A8-4DBD-A69E-E31EA776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98C6-7A6B-47C9-85E0-216BD46D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0AD2-E5A0-435B-A433-9489D5AD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7E2-041E-4244-8456-07A79B4E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388-5034-4347-BA55-95E7254E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A55-2FA5-48A9-A0C2-91EAF805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9DA-4413-4459-AD97-CF24C2A7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06C-7BCA-4C1A-A326-600AF847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0CF-3697-4DDE-AA26-289F4A4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860-4002-4CFD-B31E-C95C1E6C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6C0-7EE1-4A92-88C8-DB71503BFE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C57-AD16-4693-A51A-1CE5145B467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838160" y="617400"/>
            <a:ext cx="5466960" cy="6077880"/>
            <a:chOff x="1838160" y="617400"/>
            <a:chExt cx="5466960" cy="6077880"/>
          </a:xfrm>
        </p:grpSpPr>
        <p:sp>
          <p:nvSpPr>
            <p:cNvPr id="157" name="_s2120"/>
            <p:cNvSpPr/>
            <p:nvPr/>
          </p:nvSpPr>
          <p:spPr>
            <a:xfrm flipH="1" flipV="1">
              <a:off x="3256200" y="2895120"/>
              <a:ext cx="65736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2119"/>
            <p:cNvSpPr/>
            <p:nvPr/>
          </p:nvSpPr>
          <p:spPr>
            <a:xfrm>
              <a:off x="1838160" y="1754640"/>
              <a:ext cx="1519920" cy="152028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TECHNOLOG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text messag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phone cal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video gam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movies/t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118"/>
            <p:cNvSpPr/>
            <p:nvPr/>
          </p:nvSpPr>
          <p:spPr>
            <a:xfrm flipH="1">
              <a:off x="3256200" y="4035240"/>
              <a:ext cx="65736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2117"/>
            <p:cNvSpPr/>
            <p:nvPr/>
          </p:nvSpPr>
          <p:spPr>
            <a:xfrm>
              <a:off x="1838160" y="4035240"/>
              <a:ext cx="1519920" cy="15199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School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Pressure to fit 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learning seco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2116"/>
            <p:cNvSpPr/>
            <p:nvPr/>
          </p:nvSpPr>
          <p:spPr>
            <a:xfrm>
              <a:off x="4571640" y="4415400"/>
              <a:ext cx="0" cy="75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115"/>
            <p:cNvSpPr/>
            <p:nvPr/>
          </p:nvSpPr>
          <p:spPr>
            <a:xfrm>
              <a:off x="3811680" y="5175360"/>
              <a:ext cx="1519920" cy="15199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Nutri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junk foo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swee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fast and process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2114"/>
            <p:cNvSpPr/>
            <p:nvPr/>
          </p:nvSpPr>
          <p:spPr>
            <a:xfrm>
              <a:off x="5229360" y="4035240"/>
              <a:ext cx="65808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2113"/>
            <p:cNvSpPr/>
            <p:nvPr/>
          </p:nvSpPr>
          <p:spPr>
            <a:xfrm>
              <a:off x="5785200" y="4035240"/>
              <a:ext cx="1519920" cy="151992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Attitu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defens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want to lea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not eager to tru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2112"/>
            <p:cNvSpPr/>
            <p:nvPr/>
          </p:nvSpPr>
          <p:spPr>
            <a:xfrm flipV="1">
              <a:off x="5229360" y="2896920"/>
              <a:ext cx="65808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2111"/>
            <p:cNvSpPr/>
            <p:nvPr/>
          </p:nvSpPr>
          <p:spPr>
            <a:xfrm>
              <a:off x="5785200" y="1757160"/>
              <a:ext cx="1519920" cy="1519920"/>
            </a:xfrm>
            <a:prstGeom prst="ellipse">
              <a:avLst/>
            </a:prstGeom>
            <a:solidFill>
              <a:srgbClr val="003b76">
                <a:alpha val="50000"/>
              </a:srgbClr>
            </a:solidFill>
            <a:ln w="572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Home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technology u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limited parental involv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2110"/>
            <p:cNvSpPr/>
            <p:nvPr/>
          </p:nvSpPr>
          <p:spPr>
            <a:xfrm flipV="1">
              <a:off x="4571640" y="2136960"/>
              <a:ext cx="0" cy="75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2109"/>
            <p:cNvSpPr/>
            <p:nvPr/>
          </p:nvSpPr>
          <p:spPr>
            <a:xfrm>
              <a:off x="3811680" y="617400"/>
              <a:ext cx="1519920" cy="151992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Pe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classm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neighb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online pe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2108"/>
            <p:cNvSpPr/>
            <p:nvPr/>
          </p:nvSpPr>
          <p:spPr>
            <a:xfrm>
              <a:off x="3811680" y="2897280"/>
              <a:ext cx="1519920" cy="151992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Today’s Stud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380880" y="60948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ind Map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5:58:28Z</dcterms:created>
  <dc:creator>Liz Smith</dc:creator>
  <dc:description/>
  <dc:language>en-US</dc:language>
  <cp:lastModifiedBy>Liz Smith</cp:lastModifiedBy>
  <dcterms:modified xsi:type="dcterms:W3CDTF">2010-02-20T16:22:12Z</dcterms:modified>
  <cp:revision>2</cp:revision>
  <dc:subject/>
  <dc:title>Slide 1</dc:title>
</cp:coreProperties>
</file>