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620-F154-4288-BD12-F65B922E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D6A-7430-4C79-9998-96D9993D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7A9-3427-4E4B-A8ED-4E4ADE4F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3A5-826A-49DE-AB7D-3C966BDB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F768-3AED-4247-92CF-FDE5DE58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E4B4-85C4-4692-B0EE-FB5983C2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ECCC-E79F-43CB-920A-19BDA9BA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CE09-8898-43B7-9174-CCF4578A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CA9B-B0AD-45B3-9488-858D8DAD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056B-2131-4893-AD5A-163358FD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0FAA-7B58-442D-9E86-4BB08963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8C8-94FC-4BE5-903D-4E2EE1B0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F001-21B1-42E3-AAF8-D37BD791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A55E-CCD0-4476-9E02-9E40E703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F04B-685E-4D22-A2A8-AEA7693B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D772-9802-4FAD-BBCC-03858376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1980-7B13-418F-9AE3-EB664D83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2E43-F455-44EA-82C1-0EDCE296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5294-E11E-4CC9-A822-8D7ACFB4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386-6162-4B6D-B4BD-026F6A02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FE4-ADB1-41C0-A3FD-EBB85057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4B9-20F8-4B95-8197-F2A82E0F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409-27E8-4D98-A1EB-D170D9DB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123-107B-4B99-B721-67388B5D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E9D2-AFF3-4AF0-8C01-C61E5727CF8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CF68-A0A7-4D2B-BA6B-D3F1B91D7C0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838160" y="617400"/>
            <a:ext cx="5466960" cy="6077880"/>
            <a:chOff x="1838160" y="617400"/>
            <a:chExt cx="5466960" cy="6077880"/>
          </a:xfrm>
        </p:grpSpPr>
        <p:sp>
          <p:nvSpPr>
            <p:cNvPr id="157" name="_s2120"/>
            <p:cNvSpPr/>
            <p:nvPr/>
          </p:nvSpPr>
          <p:spPr>
            <a:xfrm flipH="1" flipV="1">
              <a:off x="3256200" y="2895120"/>
              <a:ext cx="657360" cy="37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2119"/>
            <p:cNvSpPr/>
            <p:nvPr/>
          </p:nvSpPr>
          <p:spPr>
            <a:xfrm>
              <a:off x="1838160" y="1754640"/>
              <a:ext cx="1519920" cy="1520280"/>
            </a:xfrm>
            <a:prstGeom prst="ellipse">
              <a:avLst/>
            </a:prstGeom>
            <a:solidFill>
              <a:srgbClr val="ffffcc">
                <a:alpha val="50000"/>
              </a:srgbClr>
            </a:solidFill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TECHNOLOG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text messag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phone call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video gam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movies/t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2118"/>
            <p:cNvSpPr/>
            <p:nvPr/>
          </p:nvSpPr>
          <p:spPr>
            <a:xfrm flipH="1">
              <a:off x="3256200" y="4035240"/>
              <a:ext cx="657360" cy="37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2117"/>
            <p:cNvSpPr/>
            <p:nvPr/>
          </p:nvSpPr>
          <p:spPr>
            <a:xfrm>
              <a:off x="1838160" y="4035240"/>
              <a:ext cx="1519920" cy="151992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School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Pressure to fit i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learning seco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2116"/>
            <p:cNvSpPr/>
            <p:nvPr/>
          </p:nvSpPr>
          <p:spPr>
            <a:xfrm>
              <a:off x="4571640" y="4415400"/>
              <a:ext cx="0" cy="75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2115"/>
            <p:cNvSpPr/>
            <p:nvPr/>
          </p:nvSpPr>
          <p:spPr>
            <a:xfrm>
              <a:off x="3811680" y="5175360"/>
              <a:ext cx="1519920" cy="1519920"/>
            </a:xfrm>
            <a:prstGeom prst="ellipse">
              <a:avLst/>
            </a:prstGeom>
            <a:solidFill>
              <a:srgbClr val="33cccc">
                <a:alpha val="50000"/>
              </a:srgbClr>
            </a:solidFill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Nutri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junk foo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swee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fast and process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2114"/>
            <p:cNvSpPr/>
            <p:nvPr/>
          </p:nvSpPr>
          <p:spPr>
            <a:xfrm>
              <a:off x="5229360" y="4035240"/>
              <a:ext cx="658080" cy="37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2113"/>
            <p:cNvSpPr/>
            <p:nvPr/>
          </p:nvSpPr>
          <p:spPr>
            <a:xfrm>
              <a:off x="5785200" y="4035240"/>
              <a:ext cx="1519920" cy="1519920"/>
            </a:xfrm>
            <a:prstGeom prst="ellipse">
              <a:avLst/>
            </a:prstGeom>
            <a:solidFill>
              <a:srgbClr val="66ccff">
                <a:alpha val="50000"/>
              </a:srgbClr>
            </a:solidFill>
            <a:ln w="572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Attitud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defensi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want to lear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not eager to trus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2112"/>
            <p:cNvSpPr/>
            <p:nvPr/>
          </p:nvSpPr>
          <p:spPr>
            <a:xfrm flipV="1">
              <a:off x="5229360" y="2896920"/>
              <a:ext cx="658080" cy="37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2111"/>
            <p:cNvSpPr/>
            <p:nvPr/>
          </p:nvSpPr>
          <p:spPr>
            <a:xfrm>
              <a:off x="5785200" y="1757160"/>
              <a:ext cx="1519920" cy="1519920"/>
            </a:xfrm>
            <a:prstGeom prst="ellipse">
              <a:avLst/>
            </a:prstGeom>
            <a:solidFill>
              <a:srgbClr val="003b76">
                <a:alpha val="50000"/>
              </a:srgbClr>
            </a:solidFill>
            <a:ln w="572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Home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technology u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limited parental involv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2110"/>
            <p:cNvSpPr/>
            <p:nvPr/>
          </p:nvSpPr>
          <p:spPr>
            <a:xfrm flipV="1">
              <a:off x="4571640" y="2136960"/>
              <a:ext cx="0" cy="75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2109"/>
            <p:cNvSpPr/>
            <p:nvPr/>
          </p:nvSpPr>
          <p:spPr>
            <a:xfrm>
              <a:off x="3811680" y="617400"/>
              <a:ext cx="1519920" cy="1519920"/>
            </a:xfrm>
            <a:prstGeom prst="ellipse">
              <a:avLst/>
            </a:prstGeom>
            <a:solidFill>
              <a:srgbClr val="ffffcc">
                <a:alpha val="50000"/>
              </a:srgbClr>
            </a:solidFill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Pe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classm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neighbo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online pe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_s2108"/>
            <p:cNvSpPr/>
            <p:nvPr/>
          </p:nvSpPr>
          <p:spPr>
            <a:xfrm>
              <a:off x="3811680" y="2897280"/>
              <a:ext cx="1519920" cy="1519920"/>
            </a:xfrm>
            <a:prstGeom prst="ellipse">
              <a:avLst/>
            </a:prstGeom>
            <a:solidFill>
              <a:srgbClr val="0066cc">
                <a:alpha val="50000"/>
              </a:srgbClr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Verdana"/>
                </a:rPr>
                <a:t>Today’s Studen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"/>
          <p:cNvSpPr txBox="1"/>
          <p:nvPr/>
        </p:nvSpPr>
        <p:spPr>
          <a:xfrm>
            <a:off x="380880" y="60948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ind Map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5:58:28Z</dcterms:created>
  <dc:creator>Liz Smith</dc:creator>
  <dc:description/>
  <dc:language>en-US</dc:language>
  <cp:lastModifiedBy>Liz Smith</cp:lastModifiedBy>
  <dcterms:modified xsi:type="dcterms:W3CDTF">2010-02-20T16:22:12Z</dcterms:modified>
  <cp:revision>2</cp:revision>
  <dc:subject/>
  <dc:title>Slide 1</dc:title>
</cp:coreProperties>
</file>