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C80-4A7C-48D2-96AE-F6B9BEFD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A5A-8AD0-4AB1-920E-AF69FD8F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92A-B58F-485E-AAFD-1E8019F3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F8F7-801E-4D2D-9640-01FCD7F2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33F4-F688-4EB5-8777-B9956521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B3C4-BF09-494B-88BD-39F1AB7C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6A25-FE48-4B7D-96C6-66D96D03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2308-2D7F-47C6-8DD0-AA3B5834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C6AB-D018-47B2-99EA-93F2820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7008-B280-48F7-80D3-25A27172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6CF-338B-408C-993C-45E0949C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39EE-3E16-48AB-9743-F5A6D43C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2B62-63C6-4315-A19B-FE9A56B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3929-CFB5-4F53-9B7A-8C9BA86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EF23-2551-4799-B78C-313FB763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7F6-479E-45F2-AA7E-30538322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3313-2639-47E7-AD91-3D74C85A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6145-454F-4670-B224-6BFE484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877-CAE1-4066-BB36-E7188CA4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203-1502-411D-826B-98C1AF0A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F3F-1317-4184-B0DD-E2DACCD0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C2FC-678F-417F-BDD2-08304E42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9A4-437A-4DF1-992E-359B2DE6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BD1-A15D-44E1-A63E-DD123841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E3BC-CEB6-44CB-80F6-1955F27BFD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1E8-791B-443A-9BD2-D70C35A619E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838160" y="617400"/>
            <a:ext cx="5466960" cy="6077880"/>
            <a:chOff x="1838160" y="617400"/>
            <a:chExt cx="5466960" cy="6077880"/>
          </a:xfrm>
        </p:grpSpPr>
        <p:sp>
          <p:nvSpPr>
            <p:cNvPr id="157" name="_s2120"/>
            <p:cNvSpPr/>
            <p:nvPr/>
          </p:nvSpPr>
          <p:spPr>
            <a:xfrm flipH="1" flipV="1">
              <a:off x="3256200" y="289512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_s2119"/>
            <p:cNvSpPr/>
            <p:nvPr/>
          </p:nvSpPr>
          <p:spPr>
            <a:xfrm>
              <a:off x="1838160" y="1754640"/>
              <a:ext cx="1519920" cy="15202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TECHNOLOG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xt messag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hone call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video ga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movies/tv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2118"/>
            <p:cNvSpPr/>
            <p:nvPr/>
          </p:nvSpPr>
          <p:spPr>
            <a:xfrm flipH="1">
              <a:off x="3256200" y="4035240"/>
              <a:ext cx="65736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_s2117"/>
            <p:cNvSpPr/>
            <p:nvPr/>
          </p:nvSpPr>
          <p:spPr>
            <a:xfrm>
              <a:off x="1838160" y="4035240"/>
              <a:ext cx="1519920" cy="151992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School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Pressure to fit 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earning seco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2116"/>
            <p:cNvSpPr/>
            <p:nvPr/>
          </p:nvSpPr>
          <p:spPr>
            <a:xfrm>
              <a:off x="4571640" y="441540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2115"/>
            <p:cNvSpPr/>
            <p:nvPr/>
          </p:nvSpPr>
          <p:spPr>
            <a:xfrm>
              <a:off x="3811680" y="5175360"/>
              <a:ext cx="1519920" cy="1519920"/>
            </a:xfrm>
            <a:prstGeom prst="ellipse">
              <a:avLst/>
            </a:prstGeom>
            <a:solidFill>
              <a:srgbClr val="33cccc">
                <a:alpha val="50000"/>
              </a:srgbClr>
            </a:solidFill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Nutri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junk foo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swee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fast and process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2114"/>
            <p:cNvSpPr/>
            <p:nvPr/>
          </p:nvSpPr>
          <p:spPr>
            <a:xfrm>
              <a:off x="5229360" y="403524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2113"/>
            <p:cNvSpPr/>
            <p:nvPr/>
          </p:nvSpPr>
          <p:spPr>
            <a:xfrm>
              <a:off x="5785200" y="4035240"/>
              <a:ext cx="1519920" cy="151992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572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Attitud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defensi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want to lear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ot eager to tru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2112"/>
            <p:cNvSpPr/>
            <p:nvPr/>
          </p:nvSpPr>
          <p:spPr>
            <a:xfrm flipV="1">
              <a:off x="5229360" y="2896920"/>
              <a:ext cx="65808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2111"/>
            <p:cNvSpPr/>
            <p:nvPr/>
          </p:nvSpPr>
          <p:spPr>
            <a:xfrm>
              <a:off x="5785200" y="1757160"/>
              <a:ext cx="1519920" cy="1519920"/>
            </a:xfrm>
            <a:prstGeom prst="ellipse">
              <a:avLst/>
            </a:prstGeom>
            <a:solidFill>
              <a:srgbClr val="003b76">
                <a:alpha val="50000"/>
              </a:srgbClr>
            </a:solidFill>
            <a:ln w="572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Home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technology us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limited parental involv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2110"/>
            <p:cNvSpPr/>
            <p:nvPr/>
          </p:nvSpPr>
          <p:spPr>
            <a:xfrm flipV="1">
              <a:off x="4571640" y="2136960"/>
              <a:ext cx="0" cy="759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2109"/>
            <p:cNvSpPr/>
            <p:nvPr/>
          </p:nvSpPr>
          <p:spPr>
            <a:xfrm>
              <a:off x="3811680" y="617400"/>
              <a:ext cx="1519920" cy="151992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ffff"/>
                  </a:solidFill>
                  <a:uFillTx/>
                  <a:latin typeface="Verdana"/>
                </a:rPr>
                <a:t>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classm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neighb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-online pe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_s2108"/>
            <p:cNvSpPr/>
            <p:nvPr/>
          </p:nvSpPr>
          <p:spPr>
            <a:xfrm>
              <a:off x="3811680" y="2897280"/>
              <a:ext cx="1519920" cy="1519920"/>
            </a:xfrm>
            <a:prstGeom prst="ellipse">
              <a:avLst/>
            </a:prstGeom>
            <a:solidFill>
              <a:srgbClr val="0066cc">
                <a:alpha val="50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Today’s Studen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 txBox="1"/>
          <p:nvPr/>
        </p:nvSpPr>
        <p:spPr>
          <a:xfrm>
            <a:off x="380880" y="60948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ind Map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5:58:28Z</dcterms:created>
  <dc:creator>Liz Smith</dc:creator>
  <dc:description/>
  <dc:language>en-US</dc:language>
  <cp:lastModifiedBy>Liz Smith</cp:lastModifiedBy>
  <dcterms:modified xsi:type="dcterms:W3CDTF">2010-02-20T16:22:12Z</dcterms:modified>
  <cp:revision>2</cp:revision>
  <dc:subject/>
  <dc:title>Slide 1</dc:title>
</cp:coreProperties>
</file>