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ED6E-695F-49F6-A528-53733FE0A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498A-3675-4A83-BB71-C1E5F898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1078-FD8B-4A7A-9AA0-66E02C1F9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C699-863A-4405-B141-B5E690CE9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2155-10BC-4D53-84B2-43687B923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ED74-0493-45CC-8993-26569A46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2EC3-AC37-4914-9875-6EC917AA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FCA8-16D7-4CAB-9050-5D591A00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D002-9D60-4897-95C8-C3A4D6D0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3221-06AF-42B6-94FB-F2EADAC1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A3F5-138F-4CF4-BDB0-7E245326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619B-473A-48AB-93A1-32225695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F1B2-E00E-4118-8443-03A89461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8191-067F-4DB5-90D4-91DB1F15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E619-1786-425B-9699-9D3AABA7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BBF3-46A0-4269-ACF8-1B33556DB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B28E-684B-4BAB-A590-1EFA4805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128C-1FDB-4341-8642-F625CFBE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6820-495F-4244-9664-FC5811AB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6D1D-D09C-4158-AF92-8297E8A2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7422-1898-491D-949E-BCB8CDDA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DEA7-504D-4730-A0A7-15DBEA29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C9AE-CC4D-4B8A-9A9C-91362696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7E24-BE50-47ED-B01C-F23B0CF4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ED76-7360-4772-88D6-3650959E869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3349-6C88-4D58-BCCF-F46D3E73D07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838160" y="617400"/>
            <a:ext cx="5466960" cy="6077880"/>
            <a:chOff x="1838160" y="617400"/>
            <a:chExt cx="5466960" cy="6077880"/>
          </a:xfrm>
        </p:grpSpPr>
        <p:sp>
          <p:nvSpPr>
            <p:cNvPr id="157" name="_s2120"/>
            <p:cNvSpPr/>
            <p:nvPr/>
          </p:nvSpPr>
          <p:spPr>
            <a:xfrm flipH="1" flipV="1">
              <a:off x="3256200" y="2895120"/>
              <a:ext cx="657360" cy="379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_s2119"/>
            <p:cNvSpPr/>
            <p:nvPr/>
          </p:nvSpPr>
          <p:spPr>
            <a:xfrm>
              <a:off x="1838160" y="1754640"/>
              <a:ext cx="1519920" cy="1520280"/>
            </a:xfrm>
            <a:prstGeom prst="ellipse">
              <a:avLst/>
            </a:prstGeom>
            <a:solidFill>
              <a:srgbClr val="ffffcc">
                <a:alpha val="50000"/>
              </a:srgbClr>
            </a:solidFill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ffff"/>
                  </a:solidFill>
                  <a:uFillTx/>
                  <a:latin typeface="Verdana"/>
                </a:rPr>
                <a:t>TECHNOLOG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text messag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phone call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video gam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movies/t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_s2118"/>
            <p:cNvSpPr/>
            <p:nvPr/>
          </p:nvSpPr>
          <p:spPr>
            <a:xfrm flipH="1">
              <a:off x="3256200" y="4035240"/>
              <a:ext cx="657360" cy="379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_s2117"/>
            <p:cNvSpPr/>
            <p:nvPr/>
          </p:nvSpPr>
          <p:spPr>
            <a:xfrm>
              <a:off x="1838160" y="4035240"/>
              <a:ext cx="1519920" cy="1519920"/>
            </a:xfrm>
            <a:prstGeom prst="ellipse">
              <a:avLst/>
            </a:prstGeom>
            <a:solidFill>
              <a:srgbClr val="ffcc66">
                <a:alpha val="50000"/>
              </a:srgbClr>
            </a:solidFill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ffff"/>
                  </a:solidFill>
                  <a:uFillTx/>
                  <a:latin typeface="Verdana"/>
                </a:rPr>
                <a:t>School Lif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Pressure to fit i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learning seconda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_s2116"/>
            <p:cNvSpPr/>
            <p:nvPr/>
          </p:nvSpPr>
          <p:spPr>
            <a:xfrm>
              <a:off x="4571640" y="4415400"/>
              <a:ext cx="0" cy="759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_s2115"/>
            <p:cNvSpPr/>
            <p:nvPr/>
          </p:nvSpPr>
          <p:spPr>
            <a:xfrm>
              <a:off x="3811680" y="5175360"/>
              <a:ext cx="1519920" cy="1519920"/>
            </a:xfrm>
            <a:prstGeom prst="ellipse">
              <a:avLst/>
            </a:prstGeom>
            <a:solidFill>
              <a:srgbClr val="33cccc">
                <a:alpha val="50000"/>
              </a:srgbClr>
            </a:solidFill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ffff"/>
                  </a:solidFill>
                  <a:uFillTx/>
                  <a:latin typeface="Verdana"/>
                </a:rPr>
                <a:t>Nutri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junk foo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sweet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fast and processe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_s2114"/>
            <p:cNvSpPr/>
            <p:nvPr/>
          </p:nvSpPr>
          <p:spPr>
            <a:xfrm>
              <a:off x="5229360" y="4035240"/>
              <a:ext cx="658080" cy="379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_s2113"/>
            <p:cNvSpPr/>
            <p:nvPr/>
          </p:nvSpPr>
          <p:spPr>
            <a:xfrm>
              <a:off x="5785200" y="4035240"/>
              <a:ext cx="1519920" cy="1519920"/>
            </a:xfrm>
            <a:prstGeom prst="ellipse">
              <a:avLst/>
            </a:prstGeom>
            <a:solidFill>
              <a:srgbClr val="66ccff">
                <a:alpha val="50000"/>
              </a:srgbClr>
            </a:solidFill>
            <a:ln w="5724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ffff"/>
                  </a:solidFill>
                  <a:uFillTx/>
                  <a:latin typeface="Verdana"/>
                </a:rPr>
                <a:t>Attitud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defensiv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want to lear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not eager to trus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_s2112"/>
            <p:cNvSpPr/>
            <p:nvPr/>
          </p:nvSpPr>
          <p:spPr>
            <a:xfrm flipV="1">
              <a:off x="5229360" y="2896920"/>
              <a:ext cx="658080" cy="379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_s2111"/>
            <p:cNvSpPr/>
            <p:nvPr/>
          </p:nvSpPr>
          <p:spPr>
            <a:xfrm>
              <a:off x="5785200" y="1757160"/>
              <a:ext cx="1519920" cy="1519920"/>
            </a:xfrm>
            <a:prstGeom prst="ellipse">
              <a:avLst/>
            </a:prstGeom>
            <a:solidFill>
              <a:srgbClr val="003b76">
                <a:alpha val="50000"/>
              </a:srgbClr>
            </a:solidFill>
            <a:ln w="572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ffff"/>
                  </a:solidFill>
                  <a:uFillTx/>
                  <a:latin typeface="Verdana"/>
                </a:rPr>
                <a:t>Homelif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technology us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limited parental involvem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_s2110"/>
            <p:cNvSpPr/>
            <p:nvPr/>
          </p:nvSpPr>
          <p:spPr>
            <a:xfrm flipV="1">
              <a:off x="4571640" y="2136960"/>
              <a:ext cx="0" cy="759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_s2109"/>
            <p:cNvSpPr/>
            <p:nvPr/>
          </p:nvSpPr>
          <p:spPr>
            <a:xfrm>
              <a:off x="3811680" y="617400"/>
              <a:ext cx="1519920" cy="1519920"/>
            </a:xfrm>
            <a:prstGeom prst="ellipse">
              <a:avLst/>
            </a:prstGeom>
            <a:solidFill>
              <a:srgbClr val="ffffcc">
                <a:alpha val="50000"/>
              </a:srgbClr>
            </a:solidFill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ffff"/>
                  </a:solidFill>
                  <a:uFillTx/>
                  <a:latin typeface="Verdana"/>
                </a:rPr>
                <a:t>Pe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classmat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neighbo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online pe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_s2108"/>
            <p:cNvSpPr/>
            <p:nvPr/>
          </p:nvSpPr>
          <p:spPr>
            <a:xfrm>
              <a:off x="3811680" y="2897280"/>
              <a:ext cx="1519920" cy="1519920"/>
            </a:xfrm>
            <a:prstGeom prst="ellipse">
              <a:avLst/>
            </a:prstGeom>
            <a:solidFill>
              <a:srgbClr val="0066cc">
                <a:alpha val="50000"/>
              </a:srgbClr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Verdana"/>
                </a:rPr>
                <a:t>Today’s Student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"/>
          <p:cNvSpPr txBox="1"/>
          <p:nvPr/>
        </p:nvSpPr>
        <p:spPr>
          <a:xfrm>
            <a:off x="380880" y="609480"/>
            <a:ext cx="2971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ind Map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5:58:28Z</dcterms:created>
  <dc:creator>Liz Smith</dc:creator>
  <dc:description/>
  <dc:language>en-US</dc:language>
  <cp:lastModifiedBy>Liz Smith</cp:lastModifiedBy>
  <dcterms:modified xsi:type="dcterms:W3CDTF">2010-02-20T16:22:12Z</dcterms:modified>
  <cp:revision>2</cp:revision>
  <dc:subject/>
  <dc:title>Slide 1</dc:title>
</cp:coreProperties>
</file>